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88CB4-C6EF-4E33-BC70-19F9EC9BA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BBECF-3673-44E9-B4B6-95D3DF12C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1F7C3-3552-456D-B61C-C0CBB8FB5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C9498-3221-421E-925F-92AFD23EA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A50F02-57A8-4C04-8CC0-A035E2B41C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67C2E-9E28-4D92-9AEA-87F8DCB1C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03F81-C070-4F6C-9327-D4177846A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676A6-9E9B-40C3-9127-5CF145CD3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16081-4144-4DE8-811A-87D4CAAB9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ABAE7-03C5-44E6-B345-C83917F00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44E11-210D-48FD-B8BF-BB8F8F817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C8CB8-4A2A-4E2A-9CF6-C152BFE63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A6226-2064-4748-A667-6167D0D01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CF34C-38DD-4F62-B47A-C50474D9A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74176-5EC2-4DAA-BF6A-2DFBCE634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393DF5-B760-4269-99A9-8E394E3319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5FAA3B-D53C-4BCB-875F-97C30CF5A0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78CC6-3F33-4641-9CDF-FD8107EFA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0C5D9-00B3-4311-B884-3A6970D73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CC916-BDD7-4D3A-BACD-B229DAE30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F5A94-C18F-4A61-BAD4-1B79B5FD8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551E9-BA1F-4D3F-B149-BE942280B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04CFF-4BF4-4065-B314-4C10C0DF2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378EA-8EDB-4DD7-9104-71A6C24C9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A042F-B970-4B64-A086-1C7BBE1FE6C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3F0B8-AB19-4BD1-900F-3AE29407EA2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ccess to Postsecondary Education for Individuals with Disabilities</a:t>
            </a:r>
            <a:br>
              <a:rPr sz="2800"/>
            </a:br>
            <a:r>
              <a:rPr b="1" lang="en-US" sz="2800" spc="-1" strike="noStrike">
                <a:solidFill>
                  <a:srgbClr val="003366"/>
                </a:solidFill>
                <a:latin typeface="Arial"/>
              </a:rPr>
              <a:t>One State’s Effort to Address the Documentation Issue</a:t>
            </a:r>
            <a:endParaRPr b="1" lang="en-US" sz="28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Elizabeth Evans Getzel</a:t>
            </a:r>
            <a:endParaRPr b="0" lang="en-US" sz="2400" spc="-1" strike="noStrike">
              <a:solidFill>
                <a:srgbClr val="006666"/>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Virginia Commonwealth University</a:t>
            </a: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liminary Outcomes from the Summit</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5000"/>
          </a:bodyPr>
          <a:p>
            <a:pPr marL="325800" indent="-325800">
              <a:lnSpc>
                <a:spcPct val="90000"/>
              </a:lnSpc>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ign access to higher education for individuals with disabilities with the Higher Education Restructuring Act</a:t>
            </a:r>
            <a:endParaRPr b="0" lang="en-US" sz="2800" spc="-1" strike="noStrike">
              <a:solidFill>
                <a:srgbClr val="003366"/>
              </a:solidFill>
              <a:latin typeface="Arial"/>
            </a:endParaRPr>
          </a:p>
          <a:p>
            <a:pPr marL="325800" indent="-325800">
              <a:lnSpc>
                <a:spcPct val="90000"/>
              </a:lnSpc>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 communication mechanisms across state higher education systems and with VDOE</a:t>
            </a:r>
            <a:endParaRPr b="0" lang="en-US" sz="2800" spc="-1" strike="noStrike">
              <a:solidFill>
                <a:srgbClr val="003366"/>
              </a:solidFill>
              <a:latin typeface="Arial"/>
            </a:endParaRPr>
          </a:p>
          <a:p>
            <a:pPr marL="325800" indent="-325800">
              <a:lnSpc>
                <a:spcPct val="90000"/>
              </a:lnSpc>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 on expanding diversity within the State Strategic Plan to include individuals with disabiliti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liminary Outcomes from the Summit</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 with General Assembly to develop pilot studies of assessment information collected by secondary schools to use as documentation with a 2 and 4 year college to determine type of accommodations provided and cost of accommoda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liminary Outcomes from the Summit</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ults of pilot compared to traditional methods of obtaining accommodations</a:t>
            </a:r>
            <a:endParaRPr b="0" lang="en-US" sz="2800" spc="-1" strike="noStrike">
              <a:solidFill>
                <a:srgbClr val="003366"/>
              </a:solidFill>
              <a:latin typeface="Arial"/>
            </a:endParaRPr>
          </a:p>
          <a:p>
            <a:pPr marL="343080" indent="-343080">
              <a:spcBef>
                <a:spcPts val="700"/>
              </a:spcBef>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ore economic development (getting business community involved) through Governor’s Commonwealth Initiativ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ision for Virginia</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Commonwealth of Virginia ensures equal access to higher education for students with disabilities by reducing the barriers caused by documentation requirements.</a:t>
            </a:r>
            <a:endParaRPr b="0" lang="en-US" sz="2800" spc="-1" strike="noStrike">
              <a:solidFill>
                <a:srgbClr val="003366"/>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ision for Virginia:  Objectives</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533520" indent="-533520">
              <a:lnSpc>
                <a:spcPct val="90000"/>
              </a:lnSpc>
              <a:spcAft>
                <a:spcPts val="18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what is available now in secondary education regarding documentation for students with disabilities.</a:t>
            </a:r>
            <a:endParaRPr b="0" lang="en-US" sz="2400" spc="-1" strike="noStrike">
              <a:solidFill>
                <a:srgbClr val="003366"/>
              </a:solidFill>
              <a:latin typeface="Arial"/>
            </a:endParaRPr>
          </a:p>
          <a:p>
            <a:pPr lvl="1" marL="1104840" indent="-45720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mmary of Performance, IEP information, student portfolios</a:t>
            </a:r>
            <a:endParaRPr b="0" lang="en-US" sz="2000" spc="-1" strike="noStrike">
              <a:solidFill>
                <a:srgbClr val="003366"/>
              </a:solidFill>
              <a:latin typeface="Arial"/>
            </a:endParaRPr>
          </a:p>
          <a:p>
            <a:pPr lvl="1" marL="1104840" indent="-45720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irginia Department of Education convene stakeholder meeting</a:t>
            </a:r>
            <a:endParaRPr b="0" lang="en-US" sz="2000" spc="-1" strike="noStrike">
              <a:solidFill>
                <a:srgbClr val="003366"/>
              </a:solidFill>
              <a:latin typeface="Arial"/>
            </a:endParaRPr>
          </a:p>
          <a:p>
            <a:pPr lvl="1" marL="1104840" indent="-45720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te performance plan—Indicators #13(age appropriate transition assessments) and #14 (post school outcomes-participation rate in postsecondary education)</a:t>
            </a:r>
            <a:endParaRPr b="0" lang="en-US" sz="2000" spc="-1" strike="noStrike">
              <a:solidFill>
                <a:srgbClr val="003366"/>
              </a:solidFill>
              <a:latin typeface="Arial"/>
            </a:endParaRPr>
          </a:p>
          <a:p>
            <a:pPr marL="533520" indent="0">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ision for Virginia: Objectives</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Determine what higher education can use to accommodate students.</a:t>
            </a:r>
            <a:endParaRPr b="0" lang="en-US" sz="2400" spc="-1" strike="noStrike">
              <a:solidFill>
                <a:srgbClr val="003366"/>
              </a:solidFill>
              <a:latin typeface="Arial"/>
            </a:endParaRPr>
          </a:p>
          <a:p>
            <a:pPr lvl="1" marL="743040" indent="-285840">
              <a:spcAft>
                <a:spcPts val="1500"/>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rvey higher education programs to gather information on documentation and alternatives considered, awareness level of Summary of Performance</a:t>
            </a:r>
            <a:endParaRPr b="0" lang="en-US" sz="2000" spc="-1" strike="noStrike">
              <a:solidFill>
                <a:srgbClr val="003366"/>
              </a:solidFill>
              <a:latin typeface="Arial"/>
            </a:endParaRPr>
          </a:p>
          <a:p>
            <a:pPr lvl="1" marL="743040" indent="-285840">
              <a:spcAft>
                <a:spcPts val="1500"/>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models used in other state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ision for Virginia: Objectives</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Determine how secondary and postsecondary education can best align.</a:t>
            </a:r>
            <a:endParaRPr b="0" lang="en-US" sz="2400" spc="-1" strike="noStrike">
              <a:solidFill>
                <a:srgbClr val="003366"/>
              </a:solidFill>
              <a:latin typeface="Arial"/>
            </a:endParaRPr>
          </a:p>
          <a:p>
            <a:pPr lvl="1" marL="919080" indent="-46188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uct pilot study</a:t>
            </a:r>
            <a:endParaRPr b="0" lang="en-US" sz="2000" spc="-1" strike="noStrike">
              <a:solidFill>
                <a:srgbClr val="003366"/>
              </a:solidFill>
              <a:latin typeface="Arial"/>
            </a:endParaRPr>
          </a:p>
          <a:p>
            <a:pPr lvl="1" marL="919080" indent="-46188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et with community college system, 4 year college system, and secondary education to further discuss summit outcomes</a:t>
            </a:r>
            <a:endParaRPr b="0" lang="en-US" sz="2000" spc="-1" strike="noStrike">
              <a:solidFill>
                <a:srgbClr val="003366"/>
              </a:solidFill>
              <a:latin typeface="Arial"/>
            </a:endParaRPr>
          </a:p>
          <a:p>
            <a:pPr marL="343080" indent="0">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 Information sharing</a:t>
            </a:r>
            <a:endParaRPr b="0" lang="en-US" sz="2400" spc="-1" strike="noStrike">
              <a:solidFill>
                <a:srgbClr val="003366"/>
              </a:solidFill>
              <a:latin typeface="Arial"/>
            </a:endParaRPr>
          </a:p>
          <a:p>
            <a:pPr lvl="1" marL="919080" indent="-46188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aining for students and parents, disability support personnel, evaluators, transition specialist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mediate Steps (Next 4 Months)</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Aft>
                <a:spcPts val="18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 HELP members developing a document on summit proceedings and outcomes for distribution (Virginia &amp; nationally)</a:t>
            </a:r>
            <a:endParaRPr b="0" lang="en-US" sz="2400" spc="-1" strike="noStrike">
              <a:solidFill>
                <a:srgbClr val="003366"/>
              </a:solidFill>
              <a:latin typeface="Arial"/>
            </a:endParaRPr>
          </a:p>
          <a:p>
            <a:pPr marL="343080" indent="-343080">
              <a:spcAft>
                <a:spcPts val="18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et with state legislators</a:t>
            </a:r>
            <a:endParaRPr b="0" lang="en-US" sz="2400" spc="-1" strike="noStrike">
              <a:solidFill>
                <a:srgbClr val="003366"/>
              </a:solidFill>
              <a:latin typeface="Arial"/>
            </a:endParaRPr>
          </a:p>
          <a:p>
            <a:pPr marL="343080" indent="-343080">
              <a:spcAft>
                <a:spcPts val="18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ew state policies to include language on individuals with disabilities</a:t>
            </a:r>
            <a:endParaRPr b="0" lang="en-US" sz="2400" spc="-1" strike="noStrike">
              <a:solidFill>
                <a:srgbClr val="003366"/>
              </a:solidFill>
              <a:latin typeface="Arial"/>
            </a:endParaRPr>
          </a:p>
          <a:p>
            <a:pPr marL="343080" indent="-343080">
              <a:spcAft>
                <a:spcPts val="18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llaborate with interested organizations to further the implementation of summit outcom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Virginia Higher Education Leadership Partners (VA HELP) Overview</a:t>
            </a:r>
            <a:endParaRPr b="1" lang="en-US" sz="32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ortium of diverse stakeholders that collaborate on issues pertinent to enhancement and accessibility of postsecondary education for individuals with disabilities</a:t>
            </a:r>
            <a:endParaRPr b="0" lang="en-US" sz="2800" spc="-1" strike="noStrike">
              <a:solidFill>
                <a:srgbClr val="003366"/>
              </a:solidFill>
              <a:latin typeface="Arial"/>
            </a:endParaRPr>
          </a:p>
          <a:p>
            <a:pPr marL="343080" indent="-343080">
              <a:lnSpc>
                <a:spcPct val="90000"/>
              </a:lnSpc>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stablished in 1999, members meet quarterly to work on specific issues determined by the memb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cumentation of a Disability</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 Help members have been working since 1999 on the issue of the documentation of a disability for higher education</a:t>
            </a:r>
            <a:endParaRPr b="0" lang="en-US" sz="2800" spc="-1" strike="noStrike">
              <a:solidFill>
                <a:srgbClr val="003366"/>
              </a:solidFill>
              <a:latin typeface="Arial"/>
            </a:endParaRPr>
          </a:p>
          <a:p>
            <a:pPr marL="343080" indent="-343080">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termined a summit was needed to bring statewide leaders together to address this issue and determine ideas and strategies for Virgini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eed for Summit</a:t>
            </a:r>
            <a:endParaRPr b="1" lang="en-US" sz="3600" spc="-1" strike="noStrike">
              <a:solidFill>
                <a:srgbClr val="006666"/>
              </a:solidFill>
              <a:latin typeface="Arial"/>
            </a:endParaRPr>
          </a:p>
        </p:txBody>
      </p:sp>
      <p:sp>
        <p:nvSpPr>
          <p:cNvPr id="102" name="PlaceHolder 1"/>
          <p:cNvSpPr>
            <a:spLocks noGrp="1"/>
          </p:cNvSpPr>
          <p:nvPr>
            <p:ph/>
          </p:nvPr>
        </p:nvSpPr>
        <p:spPr>
          <a:xfrm>
            <a:off x="837720" y="2361960"/>
            <a:ext cx="8001000" cy="3724200"/>
          </a:xfrm>
          <a:prstGeom prst="rect">
            <a:avLst/>
          </a:prstGeom>
          <a:noFill/>
          <a:ln w="0">
            <a:noFill/>
          </a:ln>
        </p:spPr>
        <p:txBody>
          <a:bodyPr lIns="90000" rIns="90000" tIns="46800" bIns="46800" anchor="t">
            <a:normAutofit/>
          </a:bodyPr>
          <a:p>
            <a:pPr marL="533520" indent="0">
              <a:spcBef>
                <a:spcPts val="7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o bring together decision makers, leaders and stakeholders to develop strategies to:</a:t>
            </a:r>
            <a:endParaRPr b="0" lang="en-US" sz="2800" spc="-1" strike="noStrike">
              <a:solidFill>
                <a:srgbClr val="003366"/>
              </a:solidFill>
              <a:latin typeface="Arial"/>
            </a:endParaRPr>
          </a:p>
          <a:p>
            <a:pPr lvl="1" marL="914400" indent="-457200">
              <a:spcAft>
                <a:spcPts val="1800"/>
              </a:spcAf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stablish consistency in documentation requirements across postsecondary programs</a:t>
            </a:r>
            <a:endParaRPr b="0" lang="en-US" sz="2400" spc="-1" strike="noStrike">
              <a:solidFill>
                <a:srgbClr val="003366"/>
              </a:solidFill>
              <a:latin typeface="Arial"/>
            </a:endParaRPr>
          </a:p>
          <a:p>
            <a:pPr lvl="1" marL="914400" indent="-457200">
              <a:spcAft>
                <a:spcPts val="1800"/>
              </a:spcAf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systems of shared responsibility for providing documentation for all students with disabilities entering postsecondary education programs in Virginia.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cus of Summit</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determine strategies, approaches, or areas of collaboration among summit participants to move Virginia in a direction of shared language among stakeholders, collaboration of resources or information sharing among stakeholders, and consensus across postsecondary education programs on documentation guideline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cus of Summit</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is a great need for information about best practices, clear policies, and effective communication on documentation requirements to facilitate the transition of students with disabilities from secondary to postsecondary education, and the transfer of students with disabilities from one higher education program to anothe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it</a:t>
            </a:r>
            <a:endParaRPr b="1" lang="en-US" sz="3600" spc="-1" strike="noStrike">
              <a:solidFill>
                <a:srgbClr val="006666"/>
              </a:solidFill>
              <a:latin typeface="Arial"/>
            </a:endParaRPr>
          </a:p>
        </p:txBody>
      </p:sp>
      <p:sp>
        <p:nvSpPr>
          <p:cNvPr id="108"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ed series of information for participants based on:</a:t>
            </a:r>
            <a:endParaRPr b="0" lang="en-US" sz="24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ture review</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ey stakeholder interviews (Virginia &amp; nationally)</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ational search of promising practices</a:t>
            </a:r>
            <a:endParaRPr b="0" lang="en-US" sz="2000" spc="-1" strike="noStrike">
              <a:solidFill>
                <a:srgbClr val="003366"/>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601"/>
              </a:spcBef>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presentatives attending summit:</a:t>
            </a:r>
            <a:endParaRPr b="0" lang="en-US" sz="24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te agencies (VDRS, VDOE, VDBVI,SCHEV, VCCS)</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gher Education (2 and 4 year)</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chool Psychologists</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ublic School Superintendents</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rent Representativ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ree Guiding Questions Developed for Summit Discussion</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Aft>
                <a:spcPts val="18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steps can Virginia take toward developing policies and practices to establish consistency in requirements for the documentation of a disability?</a:t>
            </a:r>
            <a:endParaRPr b="0" lang="en-US" sz="2400" spc="-1" strike="noStrike">
              <a:solidFill>
                <a:srgbClr val="003366"/>
              </a:solidFill>
              <a:latin typeface="Arial"/>
            </a:endParaRPr>
          </a:p>
          <a:p>
            <a:pPr marL="533520" indent="-533520">
              <a:spcAft>
                <a:spcPts val="18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steps can Virginia take to establish mechanisms for sharing resources enabling students with disabilities access to assessments and evaluations to document a disability for accommodation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ree Guiding Questions Developed for Summit Discussion</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steps can Virginia take to establish and support research studies, practices, and/or strategies to evaluate new approaches in developing a statewide approach to transition and documentation?</a:t>
            </a: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3T17:34:31Z</dcterms:created>
  <dc:creator>Liz Getzel</dc:creator>
  <dc:description/>
  <dc:language>en-US</dc:language>
  <cp:lastModifiedBy>sdublins</cp:lastModifiedBy>
  <dcterms:modified xsi:type="dcterms:W3CDTF">2008-06-01T12:12:20Z</dcterms:modified>
  <cp:revision>21</cp:revision>
  <dc:subject/>
  <dc:title>Facilitated Discussion on Transition Issues</dc:title>
</cp:coreProperties>
</file>