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E06D8-1991-481A-AC17-8BDD6751F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11C33-2238-41D4-B2DF-6502B02F0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D0D15-F699-4467-867F-88CEB0F77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DC29C-0435-43B0-80D9-237F93CA5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2CE50-192B-43D4-AE90-820E3B2B5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7C247-40E9-482F-8834-184AC5D4E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5856F-69D5-4867-9AE5-800896B31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D8132-9F5B-498C-AE59-E604E80BA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FBF40-FCDB-4D2A-AD15-BAD458326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41647-E1AA-41A0-9748-6B8CBF431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2A97B-E408-4676-9221-92FD78178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E7DA0-9F90-42CE-B126-166DD6DC6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75E2F-B967-48FA-96EC-7B3265746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BD316-5EDD-45AA-8B84-51E2D5492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88A5C-1F71-48E1-9D2A-E6F3ECEAE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072D1-8978-46AE-A88B-721669DAF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B57BE9-7AF1-434B-9672-9FE388DE4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8CE43-B347-4641-9E9A-C4B201808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525ED-4E01-4FFB-9288-88F90F416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A31F2-B3D1-4901-AA09-6F7C6299F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E0796-2022-4F3C-A6EB-A2D2FA655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FDF5F-8726-4750-8CF9-4E3581196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60AD7-0032-4BE9-9D74-958CB1128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6B55F-ECBF-4630-AE43-71378F30E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81D4-4AFB-4F2D-9ED6-9B325B1068D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9E3B-6A35-4E3E-8841-8953C501FB9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cess to Postsecondary Education for Individuals with Disabilities</a:t>
            </a:r>
            <a:br>
              <a:rPr sz="2800"/>
            </a:br>
            <a:r>
              <a:rPr b="1" lang="en-US" sz="2800" spc="-1" strike="noStrike">
                <a:solidFill>
                  <a:srgbClr val="003366"/>
                </a:solidFill>
                <a:latin typeface="Arial"/>
              </a:rPr>
              <a:t>One State’s Effort to Address the Documentation Issue</a:t>
            </a:r>
            <a:endParaRPr b="1" lang="en-US" sz="2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lizabeth Evans Getzel</a:t>
            </a:r>
            <a:endParaRPr b="0" lang="en-US" sz="24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irginia Commonwealth University</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ign access to higher education for individuals with disabilities with the Higher Education Restructuring Act</a:t>
            </a:r>
            <a:endParaRPr b="0" lang="en-US" sz="2800" spc="-1" strike="noStrike">
              <a:solidFill>
                <a:srgbClr val="003366"/>
              </a:solidFill>
              <a:latin typeface="Arial"/>
            </a:endParaRPr>
          </a:p>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communication mechanisms across state higher education systems and with VDOE</a:t>
            </a:r>
            <a:endParaRPr b="0" lang="en-US" sz="2800" spc="-1" strike="noStrike">
              <a:solidFill>
                <a:srgbClr val="003366"/>
              </a:solidFill>
              <a:latin typeface="Arial"/>
            </a:endParaRPr>
          </a:p>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on expanding diversity within the State Strategic Plan to include individuals with disabili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with General Assembly to develop pilot studies of assessment information collected by secondary schools to use as documentation with a 2 and 4 year college to determine type of accommodations provided and cost of accommod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 of pilot compared to traditional methods of obtaining accommodations</a:t>
            </a:r>
            <a:endParaRPr b="0" lang="en-US" sz="2800" spc="-1" strike="noStrike">
              <a:solidFill>
                <a:srgbClr val="003366"/>
              </a:solidFill>
              <a:latin typeface="Arial"/>
            </a:endParaRPr>
          </a:p>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e economic development (getting business community involved) through Governor’s Commonwealth Initiativ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mmonwealth of Virginia ensures equal access to higher education for students with disabilities by reducing the barriers caused by documentation requirements.</a:t>
            </a:r>
            <a:endParaRPr b="0" lang="en-US" sz="2800" spc="-1" strike="noStrike">
              <a:solidFill>
                <a:srgbClr val="0033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533520" indent="-533520">
              <a:lnSpc>
                <a:spcPct val="90000"/>
              </a:lnSpc>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at is available now in secondary education regarding documentation for students with disabilities.</a:t>
            </a:r>
            <a:endParaRPr b="0" lang="en-US" sz="24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mmary of Performance, IEP information, student portfolios</a:t>
            </a:r>
            <a:endParaRPr b="0" lang="en-US" sz="20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ginia Department of Education convene stakeholder meeting</a:t>
            </a:r>
            <a:endParaRPr b="0" lang="en-US" sz="20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 performance plan—Indicators #13(age appropriate transition assessments) and #14 (post school outcomes-participation rate in postsecondary education)</a:t>
            </a:r>
            <a:endParaRPr b="0" lang="en-US" sz="2000" spc="-1" strike="noStrike">
              <a:solidFill>
                <a:srgbClr val="003366"/>
              </a:solidFill>
              <a:latin typeface="Arial"/>
            </a:endParaRPr>
          </a:p>
          <a:p>
            <a:pPr marL="53352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Determine what higher education can use to accommodate students.</a:t>
            </a:r>
            <a:endParaRPr b="0" lang="en-US" sz="2400" spc="-1" strike="noStrike">
              <a:solidFill>
                <a:srgbClr val="003366"/>
              </a:solidFill>
              <a:latin typeface="Arial"/>
            </a:endParaRPr>
          </a:p>
          <a:p>
            <a:pPr lvl="1" marL="743040" indent="-285840">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rvey higher education programs to gather information on documentation and alternatives considered, awareness level of Summary of Performance</a:t>
            </a:r>
            <a:endParaRPr b="0" lang="en-US" sz="2000" spc="-1" strike="noStrike">
              <a:solidFill>
                <a:srgbClr val="003366"/>
              </a:solidFill>
              <a:latin typeface="Arial"/>
            </a:endParaRPr>
          </a:p>
          <a:p>
            <a:pPr lvl="1" marL="743040" indent="-285840">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models used in other stat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Determine how secondary and postsecondary education can best align.</a:t>
            </a:r>
            <a:endParaRPr b="0" lang="en-US" sz="24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pilot study</a:t>
            </a:r>
            <a:endParaRPr b="0" lang="en-US" sz="20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et with community college system, 4 year college system, and secondary education to further discuss summit outcomes</a:t>
            </a:r>
            <a:endParaRPr b="0" lang="en-US" sz="2000" spc="-1" strike="noStrike">
              <a:solidFill>
                <a:srgbClr val="003366"/>
              </a:solidFill>
              <a:latin typeface="Arial"/>
            </a:endParaRPr>
          </a:p>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Information sharing</a:t>
            </a:r>
            <a:endParaRPr b="0" lang="en-US" sz="24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ining for students and parents, disability support personnel, evaluators, transition specialis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mediate Steps (Next 4 Months)</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 HELP members developing a document on summit proceedings and outcomes for distribution (Virginia &amp; nationally)</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et with state legislators</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state policies to include language on individuals with disabilities</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laborate with interested organizations to further the implementation of summit outcom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irginia Higher Education Leadership Partners (VA HELP) Overview</a:t>
            </a: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ortium of diverse stakeholders that collaborate on issues pertinent to enhancement and accessibility of postsecondary education for individuals with disabilities</a:t>
            </a:r>
            <a:endParaRPr b="0" lang="en-US" sz="2800" spc="-1" strike="noStrike">
              <a:solidFill>
                <a:srgbClr val="003366"/>
              </a:solidFill>
              <a:latin typeface="Arial"/>
            </a:endParaRPr>
          </a:p>
          <a:p>
            <a:pPr marL="343080" indent="-34308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ablished in 1999, members meet quarterly to work on specific issues determined by the memb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cumentation of a Disability</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 Help members have been working since 1999 on the issue of the documentation of a disability for higher education</a:t>
            </a:r>
            <a:endParaRPr b="0" lang="en-US" sz="2800" spc="-1" strike="noStrike">
              <a:solidFill>
                <a:srgbClr val="003366"/>
              </a:solidFill>
              <a:latin typeface="Arial"/>
            </a:endParaRPr>
          </a:p>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termined a summit was needed to bring statewide leaders together to address this issue and determine ideas and strategies for Virgin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ed for Summit</a:t>
            </a:r>
            <a:endParaRPr b="1" lang="en-US" sz="3600" spc="-1" strike="noStrike">
              <a:solidFill>
                <a:srgbClr val="006666"/>
              </a:solidFill>
              <a:latin typeface="Arial"/>
            </a:endParaRPr>
          </a:p>
        </p:txBody>
      </p:sp>
      <p:sp>
        <p:nvSpPr>
          <p:cNvPr id="102"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53352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o bring together decision makers, leaders and stakeholders to develop strategies to:</a:t>
            </a:r>
            <a:endParaRPr b="0" lang="en-US" sz="2800" spc="-1" strike="noStrike">
              <a:solidFill>
                <a:srgbClr val="003366"/>
              </a:solidFill>
              <a:latin typeface="Arial"/>
            </a:endParaRPr>
          </a:p>
          <a:p>
            <a:pPr lvl="1" marL="914400" indent="-457200">
              <a:spcAft>
                <a:spcPts val="1800"/>
              </a:spcAf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ablish consistency in documentation requirements across postsecondary programs</a:t>
            </a:r>
            <a:endParaRPr b="0" lang="en-US" sz="2400" spc="-1" strike="noStrike">
              <a:solidFill>
                <a:srgbClr val="003366"/>
              </a:solidFill>
              <a:latin typeface="Arial"/>
            </a:endParaRPr>
          </a:p>
          <a:p>
            <a:pPr lvl="1" marL="914400" indent="-457200">
              <a:spcAft>
                <a:spcPts val="1800"/>
              </a:spcAf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systems of shared responsibility for providing documentation for all students with disabilities entering postsecondary education programs in Virgini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cus of Summit</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strategies, approaches, or areas of collaboration among summit participants to move Virginia in a direction of shared language among stakeholders, collaboration of resources or information sharing among stakeholders, and consensus across postsecondary education programs on documentation guidelin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cus of Summit</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a great need for information about best practices, clear policies, and effective communication on documentation requirements to facilitate the transition of students with disabilities from secondary to postsecondary education, and the transfer of students with disabilities from one higher education program to an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it</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ed series of information for participants based on:</a:t>
            </a:r>
            <a:endParaRPr b="0" lang="en-US" sz="24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ture review</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y stakeholder interviews (Virginia &amp; nationally)</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tional search of promising practices</a:t>
            </a:r>
            <a:endParaRPr b="0" lang="en-US" sz="2000" spc="-1" strike="noStrike">
              <a:solidFill>
                <a:srgbClr val="003366"/>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resentatives attending summit:</a:t>
            </a:r>
            <a:endParaRPr b="0" lang="en-US" sz="24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 agencies (VDRS, VDOE, VDBVI,SCHEV, VCC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gher Education (2 and 4 year)</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chool Psychologist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c School Superintendent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ent Representativ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Guiding Questions Developed for Summit Discussion</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ward developing policies and practices to establish consistency in requirements for the documentation of a disability?</a:t>
            </a:r>
            <a:endParaRPr b="0" lang="en-US" sz="2400" spc="-1" strike="noStrike">
              <a:solidFill>
                <a:srgbClr val="003366"/>
              </a:solidFill>
              <a:latin typeface="Arial"/>
            </a:endParaRPr>
          </a:p>
          <a:p>
            <a:pPr marL="533520" indent="-533520">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 establish mechanisms for sharing resources enabling students with disabilities access to assessments and evaluations to document a disability for accommoda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Guiding Questions Developed for Summit Discussion</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 establish and support research studies, practices, and/or strategies to evaluate new approaches in developing a statewide approach to transition and documentation?</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7:34:31Z</dcterms:created>
  <dc:creator>Liz Getzel</dc:creator>
  <dc:description/>
  <dc:language>en-US</dc:language>
  <cp:lastModifiedBy>sdublins</cp:lastModifiedBy>
  <dcterms:modified xsi:type="dcterms:W3CDTF">2008-06-01T12:12:20Z</dcterms:modified>
  <cp:revision>21</cp:revision>
  <dc:subject/>
  <dc:title>Facilitated Discussion on Transition Issues</dc:title>
</cp:coreProperties>
</file>