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8558A-2C22-4091-91C3-3B7613EC5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A7E2-8E42-422B-B2F4-574BE0E0C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6675E-2FF2-4222-A5C8-476546D37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CBC1-64FF-4765-A9FA-0E4F16DD3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D50B5-AF5F-464C-BAA1-A51542008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E402B-CC3A-4978-BFF8-7F5993B73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97314-4B8D-4AEE-8428-AECD452D6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1C47A-82EA-429F-9FAA-737480E50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ED45A-786F-4A51-B615-5B37C32F8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7C507-CDC7-4E40-8FEE-9C39191BB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EDE53-FE6E-4A5C-AD02-274DE4D61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8BB0-8AF9-41EB-818C-D01E3B4C2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CCE4E-D15F-4554-976F-729323CEB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F3992-FAFD-4565-B0B7-44B4DE33B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C9FDC-9B96-4A06-9AF6-FC5C2AB76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2B121-4F36-4E6B-B131-F7802A6DF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68376-7CCD-4DBA-A269-57CF118E8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2E5E-CA7B-4B2A-A231-E6588BAA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C484-C6B5-437B-AF00-4C8DC3A96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07B0A-2D0F-4298-91D9-3AE4EB2E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E9183-FD5B-4BF6-8986-31ACED780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26A1-3FE0-4E54-BA6D-4038FAD75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19C54-8C28-4EEA-8A48-7613FE159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6D99-0354-492F-8784-CD960E3F5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5DD7-25C9-43CE-96C4-60B5A03ED32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9CE2-FB3E-4787-90C5-B5BC326BF9F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cess to Postsecondary Education for Individuals with Disabilities</a:t>
            </a:r>
            <a:br>
              <a:rPr sz="2800"/>
            </a:br>
            <a:r>
              <a:rPr b="1" lang="en-US" sz="2800" spc="-1" strike="noStrike">
                <a:solidFill>
                  <a:srgbClr val="003366"/>
                </a:solidFill>
                <a:latin typeface="Arial"/>
              </a:rPr>
              <a:t>One State’s Effort to Address the Documentation Issue</a:t>
            </a:r>
            <a:endParaRPr b="1" lang="en-US" sz="2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lizabeth Evans Getzel</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irginia Commonwealth University</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ign access to higher education for individuals with disabilities with the Higher Education Restructuring Act</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communication mechanisms across state higher education systems and with VDOE</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expanding diversity within the State Strategic Plan to include individuals with disa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General Assembly to develop pilot studies of assessment information collected by secondary schools to use as documentation with a 2 and 4 year college to determine type of accommodations provided and cost of accommod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of pilot compared to traditional methods of obtaining accommodations</a:t>
            </a:r>
            <a:endParaRPr b="0" lang="en-US" sz="2800" spc="-1" strike="noStrike">
              <a:solidFill>
                <a:srgbClr val="003366"/>
              </a:solidFill>
              <a:latin typeface="Arial"/>
            </a:endParaRPr>
          </a:p>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e economic development (getting business community involved) through Governor’s Commonwealth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mmonwealth of Virginia ensures equal access to higher education for students with disabilities by reducing the barriers caused by documentation requirements.</a:t>
            </a:r>
            <a:endParaRPr b="0" lang="en-US" sz="2800" spc="-1" strike="noStrike">
              <a:solidFill>
                <a:srgbClr val="0033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533520" indent="-533520">
              <a:lnSpc>
                <a:spcPct val="90000"/>
              </a:lnSpc>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at is available now in secondary education regarding documentation for students with disabilities.</a:t>
            </a:r>
            <a:endParaRPr b="0" lang="en-US" sz="24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mmary of Performance, IEP information, student portfolios</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ginia Department of Education convene stakeholder meeting</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performance plan—Indicators #13(age appropriate transition assessments) and #14 (post school outcomes-participation rate in postsecondary education)</a:t>
            </a:r>
            <a:endParaRPr b="0" lang="en-US" sz="2000" spc="-1" strike="noStrike">
              <a:solidFill>
                <a:srgbClr val="003366"/>
              </a:solidFill>
              <a:latin typeface="Arial"/>
            </a:endParaRPr>
          </a:p>
          <a:p>
            <a:pPr marL="53352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Determine what higher education can use to accommodate students.</a:t>
            </a:r>
            <a:endParaRPr b="0" lang="en-US" sz="24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rvey higher education programs to gather information on documentation and alternatives considered, awareness level of Summary of Performance</a:t>
            </a:r>
            <a:endParaRPr b="0" lang="en-US" sz="20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models used in other stat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termine how secondary and postsecondary education can best align.</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ilot study</a:t>
            </a:r>
            <a:endParaRPr b="0" lang="en-US" sz="20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with community college system, 4 year college system, and secondary education to further discuss summit outcomes</a:t>
            </a:r>
            <a:endParaRPr b="0" lang="en-US" sz="2000" spc="-1" strike="noStrike">
              <a:solidFill>
                <a:srgbClr val="003366"/>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Information sharing</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students and parents, disability support personnel, evaluators, transition specialis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mediate Steps (Next 4 Months)</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 HELP members developing a document on summit proceedings and outcomes for distribution (Virginia &amp; nationally)</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et with state legislator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state policies to include language on individuals with disabilitie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aborate with interested organizations to further the implementation of summit outco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rginia Higher Education Leadership Partners (VA HELP) Overview</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rtium of diverse stakeholders that collaborate on issues pertinent to enhancement and accessibility of postsecondary education for individuals with disabilities</a:t>
            </a:r>
            <a:endParaRPr b="0" lang="en-US" sz="2800" spc="-1" strike="noStrike">
              <a:solidFill>
                <a:srgbClr val="003366"/>
              </a:solidFill>
              <a:latin typeface="Arial"/>
            </a:endParaRPr>
          </a:p>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in 1999, members meet quarterly to work on specific issues determined by the memb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cumentation of a Disabilit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 Help members have been working since 1999 on the issue of the documentation of a disability for higher education</a:t>
            </a:r>
            <a:endParaRPr b="0" lang="en-US" sz="2800" spc="-1" strike="noStrike">
              <a:solidFill>
                <a:srgbClr val="003366"/>
              </a:solidFill>
              <a:latin typeface="Arial"/>
            </a:endParaRPr>
          </a:p>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ed a summit was needed to bring statewide leaders together to address this issue and determine ideas and strategies for Virgin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Summit</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53352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o bring together decision makers, leaders and stakeholders to develop strategies to:</a:t>
            </a:r>
            <a:endParaRPr b="0" lang="en-US" sz="28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consistency in documentation requirements across postsecondary programs</a:t>
            </a:r>
            <a:endParaRPr b="0" lang="en-US" sz="24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systems of shared responsibility for providing documentation for all students with disabilities entering postsecondary education programs in Virgin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strategies, approaches, or areas of collaboration among summit participants to move Virginia in a direction of shared language among stakeholders, collaboration of resources or information sharing among stakeholders, and consensus across postsecondary education programs on documentation guidelin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great need for information about best practices, clear policies, and effective communication on documentation requirements to facilitate the transition of students with disabilities from secondary to postsecondary education, and the transfer of students with disabilities from one higher education program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i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series of information for participants based on:</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ture review</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stakeholder interviews (Virginia &amp; nationally)</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search of promising practices</a:t>
            </a:r>
            <a:endParaRPr b="0" lang="en-US" sz="2000" spc="-1" strike="noStrike">
              <a:solidFill>
                <a:srgbClr val="003366"/>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resentatives attending summit:</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agencies (VDRS, VDOE, VDBVI,SCHEV, VCC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er Education (2 and 4 year)</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ool Psychologis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 Superintenden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 Representati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ward developing policies and practices to establish consistency in requirements for the documentation of a disability?</a:t>
            </a:r>
            <a:endParaRPr b="0" lang="en-US" sz="2400" spc="-1" strike="noStrike">
              <a:solidFill>
                <a:srgbClr val="003366"/>
              </a:solidFill>
              <a:latin typeface="Arial"/>
            </a:endParaRPr>
          </a:p>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mechanisms for sharing resources enabling students with disabilities access to assessments and evaluations to document a disability for accommoda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and support research studies, practices, and/or strategies to evaluate new approaches in developing a statewide approach to transition and documentation?</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7:34:31Z</dcterms:created>
  <dc:creator>Liz Getzel</dc:creator>
  <dc:description/>
  <dc:language>en-US</dc:language>
  <cp:lastModifiedBy>sdublins</cp:lastModifiedBy>
  <dcterms:modified xsi:type="dcterms:W3CDTF">2008-06-01T12:12:20Z</dcterms:modified>
  <cp:revision>21</cp:revision>
  <dc:subject/>
  <dc:title>Facilitated Discussion on Transition Issues</dc:title>
</cp:coreProperties>
</file>