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0A4-CA4C-40A9-AE01-7A3AA06D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19B-7C07-438E-BC0C-A8CCC009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A34-7A41-4892-81D8-B1BFEA34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31F-7B9C-471B-BEFB-0FEA5734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F4797-A254-47D9-8DC4-88008B60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C991E-85F2-49E5-A823-45230DE9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C8D6D-0BF5-47A0-B1D2-155EDB36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02D90-4F84-44DC-8AAB-BDBCD536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C0FAA-68AE-48E6-A35A-02015F11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39B19-D8F0-4AD5-A4CD-9143306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46475-5C1F-42C8-9E1D-5E2B701E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FC4-C8A7-4F9C-9F58-16EA089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A56E6-F5E7-4228-8599-D14C298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C8B03-6122-4B76-BB80-D065533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EE246-E34F-4F30-82BB-168332BB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03949-892C-422D-80E7-004BB84E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C0B5E-BAD0-4D3B-BD60-F3BC3928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679-A1E5-4951-8DCE-71657119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B88-012B-4E9E-90E5-8CF068F0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CB5-9383-4A48-9139-76DE2AA2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19E-A72D-483E-BA0B-73CFAB10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ADD-1609-4BE1-975C-13F324E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8AA-5B02-4231-A882-DE1E74A5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D0A-EF9A-4249-BA1D-247BD88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BF06-D01E-456B-9FEC-5BFF2C964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6CF-DAFF-4D19-8632-EE83C8DE99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dolescent Literacy and  Students with Learning Disabilities: Highligh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from the National Joint Committee on Learning Disabilities (NJCLD, June 20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a P. R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SSESSMENT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t Middle &amp; Secondary Level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ied directly to appropriate instructional plan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ether or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student meets eligibility criteria for special education servi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ponse to Intervention (RTI)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vide data for both instructional planning and eligibility deci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m-based, compreh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llection of multiple forms of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fessionals with expertise in adolescen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ponsive to the student with late-emerging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itive to linguistic and cultur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ie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r, specific and meaningf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xs. teachers and others can use to in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structional planning for accommodations and behavioral sup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e and intensity of remediation/interv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ctly address transition pla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commodations and modifications should be viewed 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plement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ot a substitute for remedial instruction/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STRUCTION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At Middle and Secondary Leve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instruction require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inuum of services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the individual &amp; varying needs of each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ncipl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dresses this need: use of inclusive strategies that benefit a broad range of learner characteristics &amp; 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usion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, research-informed literacy i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roughout the secondary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udents who continue to strugg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ed targeted instruction at differentiated levels of intensity to address specific difficul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me students, particularly those with 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require sustained and intensive combinations of classroom instruction, remediation, and accommodations that are individualized, explicit, and releva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 (PD) likely requires systemic change and restru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digm shif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ustained PD Change Require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d Responsibility for Literacy Skil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Aligned with Needs of Educ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Related to Adul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and Supporting Organizational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hared Responsibility of Educational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special educators and other specialists are primarily responsible for remediation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 general and special education teach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t be accountable for the development of literacy skills need for the acquisition of critical content area knowled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ligning PD with Educator Nee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acher preparation progra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plic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aching about the science of reading and writ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going P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is differentiated according to expertise, experience, and responsibilit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essionals responsible for assessment, diagnosis, or delivery of remedi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have a thorough understanding of language, reading, and writing development and disabilities as well as evidence-informed practi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ur Purpo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vocate for effective reading and writing instruction for struggling older students (grades 4-12), particularly those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D Related to Adult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suggests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aborative mod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D are most effective in creating and sustaining change in teacher practices and attitudes (e.g., mentoring, coaching, team teaching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reating and Supporting Organizational Cul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al leaders must establish and value a culture that supports application of professional learning to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wise, PD efforts will not be implemented with fidelity, sustainability, and commitment on the part of educato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Resea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tructional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which, and which combinations yield what degrees and rates of change in literacy acquisi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se of RTI and other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 purposes of identification, instructional planning, and progress monitoring of old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 methodolog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rint and digital literacy de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rehensive diagnostic pro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directly informs instruction and provides for ongoing progress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cience, best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ed based on professional roles and responsi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TRANSITION” COMMENT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e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verall picture of adolescent literacy in the U.S. is less than promising, and is even more discouraging for older students             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We Kn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numbers of adolescents, especially those with LD, do not read and/or write at levels needed to meet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dem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% score 5 or more grades below 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ng than grade level peers (Natio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itudinal Transition Study II, 20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25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o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average literacy deman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ER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cl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w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average literacy dem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urth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s on early reading and writing for young childre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one is insufficient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imilar investment must be made in literacy instruction for older stud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show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iteracy instruction can help struggling adolescents acquire the skills needed to succeed in secondary settings and bey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sequences of Adolescent Literacy Proble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adequately prepa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academic challenges in middle thru post-secondary sett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er H.S. school drop-out 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general population (31% vs. 9.4%, U.S. DOE, 2007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rkedly lower % attend 4-ye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secondary progra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or literac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trongly correlated with high rates of poverty, unemployment; and low rates of workplace success and satisf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ound socio-emotional 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se individuals and for soc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ntributing Fa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al langu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ficits (R &amp; E) often become more pronounced as academic and behavioral demands increase 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transition) and continue to esca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sic and Higher-Or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phonological, semantic and syntactic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pragmatic process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increased demands fo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ent-specific knowle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ganization and retrieval of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tacognition and executive functio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gree of abstractness and level of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in &amp; across content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tiv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dependent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ese challenges are often magnified for ELL stude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rganizational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adolescent with LD, the opportunity for intervention decreases markedly when the student exits the public school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4:28:29Z</dcterms:created>
  <dc:creator>FROTH</dc:creator>
  <dc:description/>
  <dc:language>en-US</dc:language>
  <cp:lastModifiedBy>sdublins</cp:lastModifiedBy>
  <dcterms:modified xsi:type="dcterms:W3CDTF">2009-06-07T12:15:10Z</dcterms:modified>
  <cp:revision>75</cp:revision>
  <dc:subject/>
  <dc:title>Slide 1</dc:title>
</cp:coreProperties>
</file>