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837-720F-470B-8D30-0A8D3980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193-2E36-42F9-992D-CAA6D392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326-0347-4938-ABE0-2E3AD8DD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FBA-F5B5-4CC0-BB16-00484FFA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06FF5-8599-42E4-AAF7-87A0C395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C2699-FAD3-4CCB-9A48-CE581476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573D9-EC72-48EF-B54C-C924EAD5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48AFC-F350-4A21-A170-2DDB9CB2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6E2F0-4DA0-4B83-86A5-E280FB17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0E6E3-2685-46DC-A1C5-7AF87B35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1E8EF-9B8C-47E2-A5B7-DD450EC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430-0EA3-41B7-8DB2-B1F0F408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4F3EA-D3F6-4ACB-B7E2-F5F54D95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B9E87-FA9A-4DFE-82D5-D2A6B82F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13EF1-77B3-433C-AF63-7DCB57FE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7AEE2-411E-4502-8FE5-2E1929E3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E47E6-ED6C-449C-B0BF-82AC1045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BDB-D7D4-42EC-9A16-BF009F2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12F-53CF-4DEF-AC30-BDC1D2C7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4F8-97DC-4C74-984C-BA565B89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FE4-14C0-432C-9854-7BEC017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E72-2034-424F-BD9A-4C5F2FD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E03-A1C3-4ADA-A7BD-323E307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D22-D3A3-4819-8971-603A01B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BB22-8874-484D-AFDD-A2546B132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AED7-6AAD-4E88-8AF9-44C9B23D6F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dolescent Literacy and  Students with Learning Disabilities: Highligh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Report from the National Joint Committee on Learning Disabilities (NJCLD, June 200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a P. Ro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SSESSMENT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t Middle &amp; Secondary Level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ied directly to appropriate instructional plan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hether or 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student meets eligibility criteria for special education servi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ponse to Intervention (RTI) appro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vide data for both instructional planning and eligibility deci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am-based, compreh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llection of multiple forms of infor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ed b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rofessionals with expertise in adolescen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ponsive to the student with late-emerging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itive to linguistic and cultur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ie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r, specific and meaningfu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xs. teachers and others can use to infor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structional planning for accommodations and behavioral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pe and intensity of remediation/interv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ectly address transition plann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  <a:ea typeface="Times New Roman"/>
              </a:rPr>
              <a:t>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ccommodations and modifications should be viewed 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plement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not a substitute for remedial instruction/interven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STRUCTION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At Middle and Secondary Leve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teracy instruction requires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ntinuum of services…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d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ording to the individual &amp; varying needs of each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inciple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ddresses this need: use of inclusive strategies that benefit a broad range of learner characteristics &amp; 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usion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, research-informed literacy instru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roughout the secondary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udents who continue to strugg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ed targeted instruction at differentiated levels of intensity to address specific difficult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ome students, particularly those with L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require sustained and intensive combinations of classroom instruction, remediation, and accommodations that are individualized, explicit, and releva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fessional development (PD) likely requires systemic change and restru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digm shif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ustained PD Change Require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d Responsibility for Literacy Skill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Aligned with Needs of Educ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D Related to Adult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ing and Supporting Organizational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hared Responsibility of Educational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special educators and other specialists are primarily responsible for remediation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oth general and special education teach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ust be accountable for the development of literacy skills need for the acquisition of critical content area knowledg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ligning PD with Educator Nee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eacher preparation progra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plic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aching about the science of reading and writ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going P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t is differentiated according to expertise, experience, and responsibilit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essionals responsible for assessment, diagnosis, or delivery of remedi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ust have a thorough understanding of language, reading, and writing development and disabilities as well as evidence-informed practic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ur Purpo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dvocate for effective reading and writing instruction for struggling older students (grades 4-12), particularly those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D Related to Adult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suggests that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aborative mode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PD are most effective in creating and sustaining change in teacher practices and attitudes (e.g., mentoring, coaching, team teaching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reating and Supporting Organizational Cul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al leaders must establish and value a culture that supports application of professional learning to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wise, PD efforts will not be implemented with fidelity, sustainability, and commitment on the part of educato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Resear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tructional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which, and which combinations yield what degrees and rates of change in literacy acquisi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se of RTI and other approach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 purposes of identification, instructional planning, and progress monitoring of older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Universal design methodolog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print and digital literacy de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mprehensive diagnostic pro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directly informs instruction and provides for ongoing progress moni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Professional Develop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science, best 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ted based on professional roles and responsi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en-US" sz="7200" spc="-1" strike="noStrike">
                <a:solidFill>
                  <a:srgbClr val="ffcc00"/>
                </a:solidFill>
                <a:latin typeface="Tahoma"/>
              </a:rPr>
              <a:t>TRANSITION” COMMENTS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et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verall picture of adolescent literacy in the U.S. is less than promising, and is even more discouraging for older students              with 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What We Kn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ficant numbers of adolescents, especially those with LD, do not read and/or write at levels needed to meet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entury deman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1% score 5 or more grades below 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ng than grade level peers (Natio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ngitudinal Transition Study II, 200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25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ow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re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average literacy dema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VER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astes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clin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fessions hav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ow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 average literacy dem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urther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hasis on early reading and writing for young childre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lone is insufficient;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imilar investment must be made in literacy instruction for older studen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show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tensi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-qua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iteracy instruction can help struggling adolescents acquire the skills needed to succeed in secondary settings and beyo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sequences of Adolescent Literacy Proble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adequately prep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academic challenges in middle thru post-secondary setting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gher H.S. school drop-out 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an general population (31% vs. 9.4%, U.S. DOE, 2007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rkedly lower % attend 4-yea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ostsecondary progra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oor literacy ski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trongly correlated with high rates of poverty, unemployment; and low rates of workplace success and satisf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rofound socio-emotional 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se individuals and for socie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ontributing Fac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ral langu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ficits (R &amp; E) often become more pronounced as academic and behavioral demands increase 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 transition) and continue to escala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asic and Higher-Ord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phonological, semantic and syntactic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pragmatic process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increased demands fo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ntent-specific knowled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ganization and retrieval of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tacognition and executive functio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gree of abstractness and level of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gration in &amp; across content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tiv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dependent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These challenges are often magnified for ELL stude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a P. Roth, NJCLD Adolescent Literacy Symposium June 5. 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rganizational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URRENT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adolescent with LD, the opportunity for intervention decreases markedly when the student exits the public school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4:28:29Z</dcterms:created>
  <dc:creator>FROTH</dc:creator>
  <dc:description/>
  <dc:language>en-US</dc:language>
  <cp:lastModifiedBy>sdublins</cp:lastModifiedBy>
  <dcterms:modified xsi:type="dcterms:W3CDTF">2009-06-07T12:15:10Z</dcterms:modified>
  <cp:revision>75</cp:revision>
  <dc:subject/>
  <dc:title>Slide 1</dc:title>
</cp:coreProperties>
</file>