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6EF1-5871-4838-B7D6-BAAE4281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CB29-77F3-4A92-B681-CF867DF8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4C15-9D00-444E-A63B-E12D1A374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DD1B-7CD8-4FCA-ABD8-9D294F7CD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91CA3-5AF9-43A5-BD4B-E68315835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86EEF-B189-4F5F-8A50-4442536E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C42B3-8B56-4B52-8F3D-C6C2A967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DAD57-A846-43CD-85A8-503A9FFA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2DBB1-EA2A-48B7-ADE3-1B4B566C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22DDA-F899-4F5B-94AF-6CFBB1BD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BAD1E-40FD-4555-B704-B32A8B95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AB9D-0E9E-4805-8EAA-78F25A8F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BDEE3-017D-4AC4-9EF7-99141D97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6E2CE-87CA-4070-9471-92C9856C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9011E-79E5-48EE-B293-739480E5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448BC-484A-4C46-91AA-2EAA41197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E434C-71BA-4952-BA5B-97BA8905D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E2A6-76BB-489A-B16C-23199BB9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5720-55B8-41B6-9EE9-A4FA1E31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F7D6-68FC-4AE4-A51F-AFB9988A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5D29-A9B2-4E5A-B64D-74F5ECA6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23C5-8C67-44A3-B47D-7AAF6445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096A-64C4-43ED-9A64-214F46E7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C835-9DB9-4FB5-9DBB-D880A869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C6B0-6E30-4026-A134-6F0DCEA7B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F518-6DFA-4623-925A-A33BB9EF4C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Adolescent Literacy and  Students with Learning Disabilities: Highligh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Report from the National Joint Committee on Learning Disabilities (NJCLD, June 2008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a P. Ro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Implic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str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fessional Develop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ASSESSMENT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At Middle &amp; Secondary Level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►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ult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ied directly to appropriate instructional plann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hether or no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 student meets eligibility criteria for special education servic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►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esponse to Intervention (RTI) approac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rovide data for both instructional planning and eligibility decis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►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T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am-based, comprehensi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Collection of multiple forms of inform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ducted b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ofessionals with expertise in adolescent lear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ponsive to the student with late-emerging probl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sitive to linguistic and cultural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►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iel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lear, specific and meaningfu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xs. teachers and others can use to inform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structional planning for accommodations and behavioral sup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pe and intensity of remediation/interven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rectly address transition plann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  <a:ea typeface="Times New Roman"/>
              </a:rPr>
              <a:t>►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ccommodations and modifications should be viewed a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omplement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not a substitute for remedial instruction/interven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INSTRUCTION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 At Middle and Secondary Level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teracy instruction requires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ontinuum of services…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fferentiated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cording to the individual &amp; varying needs of each studen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inciple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universal desig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ddresses this need: use of inclusive strategies that benefit a broad range of learner characteristics &amp; abilit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usion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high-quality, research-informed literacy instruc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roughout the secondary grad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tudents who continue to strugg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need targeted instruction at differentiated levels of intensity to address specific difficulti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ome students, particularly those with L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require sustained and intensive combinations of classroom instruction, remediation, and accommodations that are individualized, explicit, and relevan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PROFESSIONAL DEVELOP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URRENT REA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fessional development (PD) likely requires systemic change and restructu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adigm shift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Sustained PD Change Requires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red Responsibility for Literacy Skill Develop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D Aligned with Needs of Educa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D Related to Adult Lear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ing and Supporting Organizational 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Shared Responsibility of Educational Communi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ile special educators and other specialists are primarily responsible for remediation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oth general and special education teacher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ust be accountable for the development of literacy skills need for the acquisition of critical content area knowledg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Aligning PD with Educator Need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eacher preparation program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xplici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eaching about the science of reading and writin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ngoing P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at is differentiated according to expertise, experience, and responsibiliti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rofessionals responsible for assessment, diagnosis, or delivery of remedi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ust have a thorough understanding of language, reading, and writing development and disabilities as well as evidence-informed practic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Our Purpo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advocate for effective reading and writing instruction for struggling older students (grades 4-12), particularly those with 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PD Related to Adult Learn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earch suggests tha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ollaborative mode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PD are most effective in creating and sustaining change in teacher practices and attitudes (e.g., mentoring, coaching, team teaching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Creating and Supporting Organizational Cultu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ucational leaders must establish and value a culture that supports application of professional learning to pract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wise, PD efforts will not be implemented with fidelity, sustainability, and commitment on the part of educator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Recommend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Researc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structional approach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which, and which combinations yield what degrees and rates of change in literacy acquisit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Use of RTI and other approach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or the purposes of identification, instructional planning, and progress monitoring of older 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Universal design methodologi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print and digital literacy dem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mprehensive diagnostic proces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at directly informs instruction and provides for ongoing progress monito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Professional Developme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rrent science, best pract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erentiated based on professional roles and responsibil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00"/>
                </a:solidFill>
                <a:latin typeface="Tahoma"/>
              </a:rPr>
              <a:t>“</a:t>
            </a:r>
            <a:r>
              <a:rPr b="0" lang="en-US" sz="7200" spc="-1" strike="noStrike">
                <a:solidFill>
                  <a:srgbClr val="ffcc00"/>
                </a:solidFill>
                <a:latin typeface="Tahoma"/>
              </a:rPr>
              <a:t>TRANSITION” COMMENT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Impetu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overall picture of adolescent literacy in the U.S. is less than promising, and is even more discouraging for older students              with 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What We Kno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gnificant numbers of adolescents, especially those with LD, do not read and/or write at levels needed to meet 2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entury demand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1% score 5 or more grades below i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ding than grade level peers (National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ngitudinal Transition Study II, 2003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25 fastest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grow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rofessions hav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grea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an average literacy demand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VERS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astest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clin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rofessions hav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ower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n average literacy dema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Further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phasis on early reading and writing for young children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lone is insufficient;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similar investment must be made in literacy instruction for older student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idence show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tensi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high-qual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literacy instruction can help struggling adolescents acquire the skills needed to succeed in secondary settings and beyo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Consequences of Adolescent Literacy Problem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adequately prepar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or academic challenges in middle thru post-secondary setting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Higher H.S. school drop-out rat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an general population (31% vs. 9.4%, U.S. DOE, 2007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arkedly lower % attend 4-yea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ostsecondary program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oor literacy skill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trongly correlated with high rates of poverty, unemployment; and low rates of workplace success and satisfac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rofound socio-emotional risk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or these individuals and for socie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ontributing Facto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sisten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ral languag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eficits (R &amp; E) often become more pronounced as academic and behavioral demands increase (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rade transition) and continue to escala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nguage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asic and Higher-Ord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phonological, semantic and syntactic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pragmatic process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nd increased demands for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ntent-specific knowled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rganization and retrieval of inform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etacognition and executive function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egree of abstractness and level of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gration in &amp; across content ar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tiv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dependent perform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These challenges are often magnified for ELL student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Organizational Challeng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URRENT REA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the adolescent with LD, the opportunity for intervention decreases markedly when the student exits the public school system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14:28:29Z</dcterms:created>
  <dc:creator>FROTH</dc:creator>
  <dc:description/>
  <dc:language>en-US</dc:language>
  <cp:lastModifiedBy>sdublins</cp:lastModifiedBy>
  <dcterms:modified xsi:type="dcterms:W3CDTF">2009-06-07T12:15:10Z</dcterms:modified>
  <cp:revision>75</cp:revision>
  <dc:subject/>
  <dc:title>Slide 1</dc:title>
</cp:coreProperties>
</file>