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7F29-3486-46DC-8D4F-B28B167ED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EFB6-B2BD-44D0-B538-30DB41D68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472F-9BE3-4141-96F3-7D1A265B5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01DC-AE0B-401E-95A2-BA9A2C527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896154-EF6A-4D87-B022-7BAFBEC0D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885BE2-0755-42BC-8D65-1478B22EB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45233C-BE49-4F79-8516-64EAD197D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842591-C158-4DEF-998D-841C8B9B3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741D75-BFA6-43F3-B984-EC3EFB174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DDCAF1-CE96-4881-980B-A12458FCB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FDF828-27A7-407F-A574-777C064AE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ADEF-B0AA-4053-9C55-59664F8A1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28017B-386D-41C2-A55F-A0403742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AFE66C-A8F4-4223-A5B3-5412AEB75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1AEFD6-7F23-498C-8B4A-C7F580F1A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7A170D-826D-425B-93AA-58DE48D33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6CBB4B-263E-49F3-A904-BAC4698D8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4695-195B-48B0-A19C-7CE344EE9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56D6-619A-4A34-B1B4-60DFB8B1C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7F79-1AFE-4B9F-9ABE-5BAF49304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98B0-2CAE-46B7-AE03-74AF1282E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6684-8EC3-43EB-B884-8ADFF6DCA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A599-8929-4F99-8B56-A75971F4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DDCC-0AA2-4DAC-94A7-50D017D86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EF3C7-EE79-426C-A047-80E1316BCB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0E09A-A4D1-429B-B4CA-1144FA1B88E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Adolescent Literacy and  Students with Learning Disabilities: Highlight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Report from the National Joint Committee on Learning Disabilities (NJCLD, June 2008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oma P. Ro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Implica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►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ess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►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stru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►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fessional Develop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ASSESSMENT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At Middle &amp; Secondary Level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►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ult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ied directly to appropriate instructional planning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whether or no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 student meets eligibility criteria for special education servic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►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Response to Intervention (RTI) approac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ma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rovide data for both instructional planning and eligibility decisi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►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T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eam-based, comprehensiv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Collection of multiple forms of inform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►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ducted b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ofessionals with expertise in adolescent learn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ponsive to the student with late-emerging proble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sitive to linguistic and cultural fac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►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iel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clear, specific and meaningfu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rxs. teachers and others can use to inform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structional planning for accommodations and behavioral suppor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pe and intensity of remediation/interven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rectly address transition plann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  <a:ea typeface="Times New Roman"/>
              </a:rPr>
              <a:t>►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Accommodations and modifications should be viewed as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complementar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not a substitute for remedial instruction/interven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INSTRUCTION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 At Middle and Secondary Level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►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teracy instruction requires a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continuum of services…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fferentiated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cording to the individual &amp; varying needs of each studen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►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principle of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universal desig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ddresses this need: use of inclusive strategies that benefit a broad range of learner characteristics &amp; abiliti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►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usion of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high-quality, research-informed literacy instruc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hroughout the secondary grad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►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tudents who continue to struggl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need targeted instruction at differentiated levels of intensity to address specific difficultie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►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ome students, particularly those with L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require sustained and intensive combinations of classroom instruction, remediation, and accommodations that are individualized, explicit, and relevant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PROFESSIONAL DEVELOPMEN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URRENT REA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fessional development (PD) likely requires systemic change and restructur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adigm shift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Sustained PD Change Requires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ared Responsibility for Literacy Skill Develop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D Aligned with Needs of Educa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D Related to Adult Learn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eating and Supporting Organizational 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Shared Responsibility of Educational Communit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►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ile special educators and other specialists are primarily responsible for remediation,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both general and special education teacher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ust be accountable for the development of literacy skills need for the acquisition of critical content area knowledg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Aligning PD with Educator Need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eacher preparation program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Explici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eaching about the science of reading and writing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Ongoing P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hat is differentiated according to expertise, experience, and responsibiliti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Professionals responsible for assessment, diagnosis, or delivery of remedia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ust have a thorough understanding of language, reading, and writing development and disabilities as well as evidence-informed practic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Our Purpos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advocate for effective reading and writing instruction for struggling older students (grades 4-12), particularly those with L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PD Related to Adult Learn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earch suggests that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collaborative model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f PD are most effective in creating and sustaining change in teacher practices and attitudes (e.g., mentoring, coaching, team teaching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Creating and Supporting Organizational Cultur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ducational leaders must establish and value a culture that supports application of professional learning to practi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therwise, PD efforts will not be implemented with fidelity, sustainability, and commitment on the part of educator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Recommenda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Research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Instructional approach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which, and which combinations yield what degrees and rates of change in literacy acquisitio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Use of RTI and other approach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for the purposes of identification, instructional planning, and progress monitoring of older stud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Universal design methodologi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o print and digital literacy dema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Assess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omprehensive diagnostic proces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at directly informs instruction and provides for ongoing progress monitor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Professional Developmen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urrent science, best practi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fferentiated based on professional roles and responsibili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cc00"/>
                </a:solidFill>
                <a:latin typeface="Tahoma"/>
              </a:rPr>
              <a:t>“</a:t>
            </a:r>
            <a:r>
              <a:rPr b="0" lang="en-US" sz="7200" spc="-1" strike="noStrike">
                <a:solidFill>
                  <a:srgbClr val="ffcc00"/>
                </a:solidFill>
                <a:latin typeface="Tahoma"/>
              </a:rPr>
              <a:t>TRANSITION” COMMENTS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Impetu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overall picture of adolescent literacy in the U.S. is less than promising, and is even more discouraging for older students              with L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What We Know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gnificant numbers of adolescents, especially those with LD, do not read and/or write at levels needed to meet 2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entury demand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►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1% score 5 or more grades below i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ading than grade level peers (National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ngitudinal Transition Study II, 2003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25 fastest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growing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rofessions have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great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han average literacy demand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VERS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fastest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declining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rofessions have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lower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an average literacy demand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Further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mphasis on early reading and writing for young children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alone is insufficient;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similar investment must be made in literacy instruction for older student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idence shows tha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intensiv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high-qualit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literacy instruction can help struggling adolescents acquire the skills needed to succeed in secondary settings and beyon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Consequences of Adolescent Literacy Problem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Inadequately prepar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for academic challenges in middle thru post-secondary setting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Higher H.S. school drop-out rat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han general population (31% vs. 9.4%, U.S. DOE, 2007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arkedly lower % attend 4-yea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ostsecondary program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Poor literacy skill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Strongly correlated with high rates of poverty, unemployment; and low rates of workplace success and satisfac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Profound socio-emotional risk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for these individuals and for societ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ontributing Facto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sisten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oral languag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deficits (R &amp; E) often become more pronounced as academic and behavioral demands increase (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grade transition) and continue to escala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►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nguage: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Basic and Higher-Orde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phonological, semantic and syntactic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pragmatic process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And increased demands for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ontent-specific knowled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rganization and retrieval of inform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etacognition and executive functioni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5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Degree of abstractness and level of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gration in &amp; across content are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6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otiva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7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ndependent perform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These challenges are often magnified for ELL student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Organizational Challeng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URRENT REA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 the adolescent with LD, the opportunity for intervention decreases markedly when the student exits the public school system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1T14:28:29Z</dcterms:created>
  <dc:creator>FROTH</dc:creator>
  <dc:description/>
  <dc:language>en-US</dc:language>
  <cp:lastModifiedBy>sdublins</cp:lastModifiedBy>
  <dcterms:modified xsi:type="dcterms:W3CDTF">2009-06-07T12:15:10Z</dcterms:modified>
  <cp:revision>75</cp:revision>
  <dc:subject/>
  <dc:title>Slide 1</dc:title>
</cp:coreProperties>
</file>