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796-E9E8-42B8-8126-0830643A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CA8-F6D5-45A2-8594-489D0098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F17-930D-4D3B-8EC8-4FD1BEF0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2DE-12B6-4C2B-839C-EFFCEC1B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CC707-52BA-453F-AA44-8852CB12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FFB79-BB17-440C-BAAB-8C015B65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F0811-0AA1-4B5C-8D86-6CA72EFD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234C0-D144-42CC-BEC1-C91CE770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FDECB-2ECB-44B8-B6C4-68E20FF1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E2FF2-3D0B-4D89-BEC4-4D24E612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84B1C-6F13-4072-9614-B1E3E7E6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FAD-2524-478C-97C2-489FE1A8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C9420-686F-40D5-BD3E-556B3E1E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7F1C9-89CC-4212-890D-87F8790E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8C4EB-48C7-42F4-BDB9-B76BF133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E7546-38C4-4EDC-8DB1-5B0806B2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D5EB7-6AF3-406D-A48C-7160CF1E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75E-B81E-49DD-8FB3-F032F2A6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335-7130-47F2-865F-01899E24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77A-C07E-4DEA-8A41-90FA8C1B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77F-B7F2-40E9-819A-7FDE5B63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688-13DB-4C05-94A4-E2C5B542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208-7EE4-4193-98AC-93FB8BD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5C6-7BBD-4F3B-A345-BA8E26AF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1347-60F4-44D0-B909-9E70E1CAB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CBE3-2069-4C96-9028-F7E88521D1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dolescent Literacy and  Students with Learning Disabilities: Highligh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from the National Joint Committee on Learning Disabilities (NJCLD, June 20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a P. R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SSESSMENT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t Middle &amp; Secondary Level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ied directly to appropriate instructional plan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ether or 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student meets eligibility criteria for special education servi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ponse to Intervention (RTI) appro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vide data for both instructional planning and eligibility decis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m-based, compreh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ollection of multiple forms of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fessionals with expertise in adolescen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ponsive to the student with late-emerging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itive to linguistic and cultur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ie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r, specific and meaningf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xs. teachers and others can use to info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structional planning for accommodations and behavioral sup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e and intensity of remediation/interv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ctly address transition plann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commodations and modifications should be viewed 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mplement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not a substitute for remedial instruction/interven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STRUCTION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At Middle and Secondary Leve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cy instruction require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tinuum of services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d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the individual &amp; varying needs of each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incipl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ddresses this need: use of inclusive strategies that benefit a broad range of learner characteristics &amp; ab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usion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, research-informed literacy i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roughout the secondary gr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udents who continue to strugg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ed targeted instruction at differentiated levels of intensity to address specific difficult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me students, particularly those with 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require sustained and intensive combinations of classroom instruction, remediation, and accommodations that are individualized, explicit, and releva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 (PD) likely requires systemic change and restru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digm shif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ustained PD Change Require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d Responsibility for Literacy Skil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Aligned with Needs of Educ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Related to Adul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and Supporting Organizational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hared Responsibility of Educational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special educators and other specialists are primarily responsible for remediation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th general and special education teach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t be accountable for the development of literacy skills need for the acquisition of critical content area knowledg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ligning PD with Educator Nee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acher preparation progra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plic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aching about the science of reading and writ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going P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is differentiated according to expertise, experience, and responsibilit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essionals responsible for assessment, diagnosis, or delivery of remedi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have a thorough understanding of language, reading, and writing development and disabilities as well as evidence-informed practic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ur Purpo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vocate for effective reading and writing instruction for struggling older students (grades 4-12), particularly those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D Related to Adult Lear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suggests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aborative mod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D are most effective in creating and sustaining change in teacher practices and attitudes (e.g., mentoring, coaching, team teaching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reating and Supporting Organizational Cul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al leaders must establish and value a culture that supports application of professional learning to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wise, PD efforts will not be implemented with fidelity, sustainability, and commitment on the part of educato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Resea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tructional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which, and which combinations yield what degrees and rates of change in literacy acquisi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se of RTI and other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 purposes of identification, instructional planning, and progress monitoring of older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 methodolog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print and digital literacy de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rehensive diagnostic pro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directly informs instruction and provides for ongoing progress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science, best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ed based on professional roles and responsi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TRANSITION” COMMENT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et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verall picture of adolescent literacy in the U.S. is less than promising, and is even more discouraging for older students             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We Kn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t numbers of adolescents, especially those with LD, do not read and/or write at levels needed to meet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dema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% score 5 or more grades below 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ing than grade level peers (Natio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itudinal Transition Study II, 20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25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ow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average literacy deman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ER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cli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ow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 average literacy dem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urth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hasis on early reading and writing for young childre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lone is insufficient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imilar investment must be made in literacy instruction for older stud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show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t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iteracy instruction can help struggling adolescents acquire the skills needed to succeed in secondary settings and beyo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sequences of Adolescent Literacy Proble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adequately prepa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academic challenges in middle thru post-secondary setting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er H.S. school drop-out 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general population (31% vs. 9.4%, U.S. DOE, 2007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rkedly lower % attend 4-ye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stsecondary program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or literac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trongly correlated with high rates of poverty, unemployment; and low rates of workplace success and satisf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ound socio-emotional 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se individuals and for socie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ntributing Fac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al langu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ficits (R &amp; E) often become more pronounced as academic and behavioral demands increase 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transition) and continue to escal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asic and Higher-Ord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phonological, semantic and syntactic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pragmatic process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d increased demands fo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ent-specific knowle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ganization and retrieval of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tacognition and executive functio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gree of abstractness and level of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in &amp; across content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tiv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dependent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ese challenges are often magnified for ELL stude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rganizational 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adolescent with LD, the opportunity for intervention decreases markedly when the student exits the public school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4:28:29Z</dcterms:created>
  <dc:creator>FROTH</dc:creator>
  <dc:description/>
  <dc:language>en-US</dc:language>
  <cp:lastModifiedBy>sdublins</cp:lastModifiedBy>
  <dcterms:modified xsi:type="dcterms:W3CDTF">2009-06-07T12:15:10Z</dcterms:modified>
  <cp:revision>75</cp:revision>
  <dc:subject/>
  <dc:title>Slide 1</dc:title>
</cp:coreProperties>
</file>