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103D-5FDA-4ED0-BDE5-0016A7822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B317-D6CA-4596-A647-B8F5D6D09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C48A-9699-461F-B920-9337D7C43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80E1-CF2F-49B1-9FDE-B8858B54F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B79-6FAE-46FB-ADE4-CEBD6135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1B8-1F4F-4AC3-87FD-AD0781E0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F8D-EC0A-4927-8A4D-284EE3AC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4BC-288E-4493-9C30-8C6D3C94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CEA5-A4DA-49E0-B9D2-4868A44F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E30A-87AF-4D8F-B02B-0707DFA3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0089-8D24-4365-9F61-0E3EAD41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E2D2-6925-4F4C-9569-24845439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1443-9CBD-42A4-AC52-561B28BA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869A-76BE-4BA8-A400-6F627368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C7FB-64E7-4C88-BFC4-08EE79C2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9D8-E535-4816-8838-A46A5369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BB48-6504-4293-9AFF-18670E9F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82B2-B5C8-47CA-B8D1-0BF4C614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B16C-A50C-4F34-B19D-BDC8846C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7C14-D009-450B-B5EF-318FA87F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69B0-06D6-4EFC-8F18-13F6FD27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98840-4424-40E8-AFC3-DB3A1546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6AE20-A887-462C-8A54-B3DAE860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F5360-363F-42D8-8587-8284177E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F29A8-C169-4360-B5EB-DED952B5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F7255-E0BE-4766-8EF1-5152AB6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217-608C-47E5-8447-4D0358B7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C1B9E-A44A-46E1-9308-2932BF05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D7506-7C22-4E7C-9F82-3C61B52A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A1BA2-75CC-4AA7-A321-AD004E39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19CF4-6AA7-4F60-AADA-69F9D1CC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57D14-0CA3-4DE0-9B87-12B824A7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9E101-7692-4F47-A55C-646FD904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6345D-90DB-4616-8BF7-AA1488B8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E15A-A6BC-4866-A467-862E2256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80727-477E-4AEB-8419-05714CA4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D54CD-BE52-46A5-A509-2D5F150E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D9A-E364-473B-B93E-623F44F8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73DB-E98E-420C-BF14-2DF1B934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099F1-F99B-47A5-8682-B71547F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1A531-81C5-492C-9C10-76967E54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CA34-A54D-4CBA-9ACF-0E780317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7DC4A-EE24-4057-BD55-CFE90FC7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C770C-B2E2-414D-A1FF-43EBA9DC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6CAE-1490-468A-883D-C482F84B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9A21E-E7B3-4E4F-B6B2-7C0860E0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D159-5255-43B5-A643-69438F17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710-E409-41DE-88CE-04D86084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8E0-FC56-4B32-ACD6-E871BB03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C1D-9580-4159-B8E1-4DE40B96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2CF-F38E-45A4-993D-D9CDBAB3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C7C-7FB9-448E-8CAB-4EBAF5F0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82E6-D1D8-40DD-AD28-3F33F15F7A7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8ABC-27D3-49E2-A4E5-47CE57957D9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00B4-3972-42B3-8B17-733B6B1277C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71F5-7A0E-47C4-AC18-8C1CA7335E7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flecting on the field of adolescent literacy: Perspectives from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541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Brett Miller, P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Program Directo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Reading, Writing, &amp; Related LD Progra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NIC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NICHD black.png"/>
          <p:cNvPicPr/>
          <p:nvPr/>
        </p:nvPicPr>
        <p:blipFill>
          <a:blip r:embed="rId1"/>
          <a:stretch/>
        </p:blipFill>
        <p:spPr>
          <a:xfrm>
            <a:off x="3505320" y="5756400"/>
            <a:ext cx="2286000" cy="87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Picture1.png"/>
          <p:cNvPicPr/>
          <p:nvPr/>
        </p:nvPicPr>
        <p:blipFill>
          <a:blip r:embed="rId2"/>
          <a:stretch/>
        </p:blipFill>
        <p:spPr>
          <a:xfrm>
            <a:off x="7848720" y="5748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Picture2.png"/>
          <p:cNvPicPr/>
          <p:nvPr/>
        </p:nvPicPr>
        <p:blipFill>
          <a:blip r:embed="rId3"/>
          <a:stretch/>
        </p:blipFill>
        <p:spPr>
          <a:xfrm>
            <a:off x="533520" y="564984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riting and Reading-Writing Connec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shop on Writing Development and Instruction in May cosponsored by NIF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ts will be forthco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ntinue to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courage work on writing development, interventions, and reading-writing conn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ate emerging R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ild our understanding of reading difficulties and disabilities that emerge l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ye towards understanding the genesis of these problems, how to remediate and to identify these individuals earlier before significant problems ari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eading Comprehension and Intervent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oundational work to inform construct refin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ment of this skill from early readers into adulth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d work on intervention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th in adolescents and with struggling adul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tional Academies 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 panel activ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Learning Sciences: Foundations and Applications to Adolescent and Adult Literacy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ponsored by NIFL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is panel will conduct a “study of the scientific foundations of adolescent and adult literacy with implications for policy and practice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duct expected in early 2011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DCB6-2115-4091-8599-72134F8A4ED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tnering with oth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08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RA-NICHD Partner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ngoing partnership moving into 7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yea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ew effort focused on </a:t>
            </a:r>
            <a:r>
              <a:rPr b="0" i="1" lang="en-US" sz="2600" spc="-1" strike="noStrike">
                <a:solidFill>
                  <a:srgbClr val="438086"/>
                </a:solidFill>
                <a:latin typeface="Georgia"/>
              </a:rPr>
              <a:t>Measuring Classroom Instruction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j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sing our normal workshop model to take advantage of technolog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712800" y="197496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Brett Mill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millerbre@mail.nih.go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teracy Activities at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y NICHD is interested in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ef intro to why NICHD has literacy investments across the lifesp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flecting on our current investments in adolescent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4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24456"/>
                </a:solidFill>
                <a:latin typeface="Georgia"/>
              </a:rPr>
              <a:t>How does literacy fit into the mission of the National Institutes of Health?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Mission of NICHD: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ere does literacy fit in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Ensure that every person is born healthy and wante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omen suffer no harmful effects from reproductive processe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All children have the chance to achieve their full potential for healthy and productive lives, free from disease or disability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Ensure the health, productivity, independence, and well-being of all people through optimal rehabilitation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2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study individuals with and without learning disabilities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oundational research on human learning and learning disabilities is an integral part of child development and health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aders who do not struggle help us understand how literacy usually develop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This is critical context for understanding research results when working with struggling readers or those with a disability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sufficient to study only one group.  We need to understand the need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all readers/writers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gardles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disability or age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Verdana"/>
              </a:rPr>
              <a:t>Basic Questions of Interes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How do individuals learn to read &amp; write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goes wrong when they don’t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can we do about it? (Prevention and remediation)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urrent Directions in Adol. Literac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olescent Literacy Consortiu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agency effort with OVAE (ED) and OS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unded 5 research projects focused on various aspects of adolescent literac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Range of methodological techniques (behavior and neurobiology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cludes work on interventions, motivation and engagement, and foundational research on reading comprehens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terdisciplinary team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earning Disabilities Research Center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 of 4 centers involve work with pre-adolescents and adolesc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ation of RTI in secondary set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vention based stud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te estimates of prevalence of different types of RD for this age gr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reading comprehension in skilled and struggling rea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ere we envision moving t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ing and reading-writing relation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late emerging 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emphasis on translation (intervention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21:46:55Z</dcterms:created>
  <dc:creator>Brett</dc:creator>
  <dc:description/>
  <dc:language>en-US</dc:language>
  <cp:lastModifiedBy>sdublins</cp:lastModifiedBy>
  <dcterms:modified xsi:type="dcterms:W3CDTF">2009-06-07T12:14:51Z</dcterms:modified>
  <cp:revision>19</cp:revision>
  <dc:subject/>
  <dc:title>Slide 1</dc:title>
</cp:coreProperties>
</file>