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7188-5CB6-438B-86C3-30033E227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CCF-9FC6-488F-B8C6-AEB0BB7E7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ECF7-C93F-4503-A34F-656F72C2A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3D4C-A9F8-4FA8-AA28-D47720D9A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CD81-D4F3-4834-BE49-101AC39F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4DE-4C4C-4554-8387-AEA26BE9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1AB-2711-4E5E-9B38-5FDE2566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C3A-413E-4FD3-9739-BEE799C3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9619-D29F-404A-B654-C7927705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0095-0844-4959-823E-FC36CA1B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8B7C-E3EA-4287-A3E4-0037490A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C40F-446E-4F62-A563-1977BFE4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4FCA-5943-4A17-A013-87233096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18A8-D3AA-49DD-8F42-CC85AE3D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962D-C85C-4E4A-902E-FCFC0F22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CC3-FB78-4142-8A1F-D2919C67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1DD3-994D-470D-8BB5-1A2EE1D5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018E-D059-4E4C-8263-3741690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936F-0B18-4954-8BE2-8D6D6ACE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3C74-7A80-4F4F-8BEB-0326DB86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141A-FEDF-4A3B-9DA9-AB388EEC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340E6-2ADC-4999-A2A1-687C596C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495C3-36EF-41C3-A9C5-998B9102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26118-89B1-49A4-A34A-B1FDD5B6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EF352-2D9A-44B7-BCE9-B3E218CE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D5AF1-ED78-4889-BC40-0F277C34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726-F66D-4272-A0DE-E50B90BF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653BE-C553-4268-9369-BA487312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845C5-C05A-475E-9C89-7A22AA8A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66388-7001-4A89-8E70-412A72F7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14486-55FE-44B3-B8BB-62335F3D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989D5-749D-4EC6-B31F-3DB0BD1C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AF9EF-18F5-44AC-9FAE-843EE67B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FDBFE-3F52-483F-85C9-FFDE75F5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0D058-A18D-47AE-9A63-FB6BFD12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804BC-F6A4-459B-887C-7C271930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98B18-A96D-4EFB-A1D5-759C919F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339-AAFC-4C48-B355-76C4C118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F43D9-289D-4636-AD7D-5546E48A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9BC6-1598-438A-BEC7-F38DA7E8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40FD6-0192-47BC-8FDF-CFF0234E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46A1-9C0E-49F0-AF31-65BA8DC9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BF3D8-315B-484A-8AFC-2E3DA09F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9FCB6-9D0A-4C92-AF19-4AE26719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33A6B-E3BE-4F36-9034-1BA5A520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34F0C-7ABE-42AF-8232-5E1D3987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5A444-D4E4-4839-A8DB-D90FEEBB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8AB-5317-49F2-BD46-1EA3203F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698-36DB-44E3-B543-93BA7046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3E5-2B56-4015-99DB-CF6E2A66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0E2-1537-42C1-AA49-695336AC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E6B-2A3C-454A-95CE-5BE09B43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13AF-487F-46F4-9DF1-4EC437972D7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2A7F-4AC4-438D-9441-160131C326B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67CE-10E4-47D3-AD5C-462569C2652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9B6A-8BE7-4FF5-8CFB-FC21DDF025F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flecting on the field of adolescent literacy: Perspectives from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541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Brett Miller, P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Program Directo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Reading, Writing, &amp; Related LD Progra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NIC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NICHD black.png"/>
          <p:cNvPicPr/>
          <p:nvPr/>
        </p:nvPicPr>
        <p:blipFill>
          <a:blip r:embed="rId1"/>
          <a:stretch/>
        </p:blipFill>
        <p:spPr>
          <a:xfrm>
            <a:off x="3505320" y="5756400"/>
            <a:ext cx="2286000" cy="87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Picture1.png"/>
          <p:cNvPicPr/>
          <p:nvPr/>
        </p:nvPicPr>
        <p:blipFill>
          <a:blip r:embed="rId2"/>
          <a:stretch/>
        </p:blipFill>
        <p:spPr>
          <a:xfrm>
            <a:off x="7848720" y="5748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Picture2.png"/>
          <p:cNvPicPr/>
          <p:nvPr/>
        </p:nvPicPr>
        <p:blipFill>
          <a:blip r:embed="rId3"/>
          <a:stretch/>
        </p:blipFill>
        <p:spPr>
          <a:xfrm>
            <a:off x="533520" y="564984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riting and Reading-Writing Connec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shop on Writing Development and Instruction in May cosponsored by NIF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ts will be forthco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ntinue to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courage work on writing development, interventions, and reading-writing conn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ate emerging R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ild our understanding of reading difficulties and disabilities that emerge l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ye towards understanding the genesis of these problems, how to remediate and to identify these individuals earlier before significant problems ari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eading Comprehension and Intervent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oundational work to inform construct refin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ment of this skill from early readers into adulth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d work on intervention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th in adolescents and with struggling adul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tional Academies 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 panel activ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Learning Sciences: Foundations and Applications to Adolescent and Adult Literacy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ponsored by NIFL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is panel will conduct a “study of the scientific foundations of adolescent and adult literacy with implications for policy and practice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duct expected in early 2011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C6ED-90C7-491C-9E8D-52C2E205403F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tnering with oth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08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RA-NICHD Partner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ngoing partnership moving into 7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yea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ew effort focused on </a:t>
            </a:r>
            <a:r>
              <a:rPr b="0" i="1" lang="en-US" sz="2600" spc="-1" strike="noStrike">
                <a:solidFill>
                  <a:srgbClr val="438086"/>
                </a:solidFill>
                <a:latin typeface="Georgia"/>
              </a:rPr>
              <a:t>Measuring Classroom Instruction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j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sing our normal workshop model to take advantage of technolog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712800" y="1974960"/>
            <a:ext cx="7785000" cy="13906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Brett Mill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millerbre@mail.nih.gov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teracy Activities at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y NICHD is interested in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ief intro to why NICHD has literacy investments across the lifesp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flecting on our current investments in adolescent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4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24456"/>
                </a:solidFill>
                <a:latin typeface="Georgia"/>
              </a:rPr>
              <a:t>How does literacy fit into the mission of the National Institutes of Health?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Mission of NICHD: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ere does literacy fit in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Ensure that every person is born healthy and wante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omen suffer no harmful effects from reproductive processe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All children have the chance to achieve their full potential for healthy and productive lives, free from disease or disability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Ensure the health, productivity, independence, and well-being of all people through optimal rehabilitation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2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study individuals with and without learning disabilities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oundational research on human learning and learning disabilities is an integral part of child development and health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aders who do not struggle help us understand how literacy usually develop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This is critical context for understanding research results when working with struggling readers or those with a disability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sufficient to study only one group.  We need to understand the need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all readers/writers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gardles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disability or age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Verdana"/>
              </a:rPr>
              <a:t>Basic Questions of Interes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How do individuals learn to read &amp; write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goes wrong when they don’t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can we do about it? (Prevention and remediation)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2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urrent Directions in Adol. Literac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olescent Literacy Consortiu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agency effort with OVAE (ED) and OS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unded 5 research projects focused on various aspects of adolescent literac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Range of methodological techniques (behavior and neurobiology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cludes work on interventions, motivation and engagement, and foundational research on reading comprehens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terdisciplinary team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earning Disabilities Research Center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 of 4 centers involve work with pre-adolescents and adolesc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ation of RTI in secondary set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vention based stud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te estimates of prevalence of different types of RD for this age gr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reading comprehension in skilled and struggling read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ere we envision moving t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ing and reading-writing relation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late emerging 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emphasis on translation (intervention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21:46:55Z</dcterms:created>
  <dc:creator>Brett</dc:creator>
  <dc:description/>
  <dc:language>en-US</dc:language>
  <cp:lastModifiedBy>sdublins</cp:lastModifiedBy>
  <dcterms:modified xsi:type="dcterms:W3CDTF">2009-06-07T12:14:51Z</dcterms:modified>
  <cp:revision>19</cp:revision>
  <dc:subject/>
  <dc:title>Slide 1</dc:title>
</cp:coreProperties>
</file>