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4F8B5-1053-4DE9-9748-7B8E0A5758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8DAF1-3B74-469F-8C14-911B88DE5C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1ABB0-D2E9-40B6-9E9F-6D6E441300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D4771-17AF-4541-9BA8-8F21E27B8C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64AF-E490-4B38-BD4C-8D5181EE4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107E-49B9-4EFF-9CF1-71A7FAC8B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8380-D6D9-4869-807A-951962B27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91EE-BB89-4AE8-B7E7-904749479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56140-EB78-4A1C-A3CA-3A1C12CF3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02C3B-7B6E-40F0-9BF1-022D6FAAB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C13CB-9205-470A-A4E9-D53C239E6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C9080-AAE7-4867-82C9-252F188FB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FD340-D727-4342-B108-DD3A27B0D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74CC3-D1D7-4145-9BF5-26949D717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163F1-15D3-4F0D-BE5A-40D3A37C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31FE-E8BC-42F2-8D5C-BC7EF6C7F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0882B-51EC-4F37-9B6B-6E1034B7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397B7-FB67-4856-ABE5-DDF376C4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A298E-B031-4125-B2AA-CA5DA1F70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56C36-A507-4B13-BB01-1CC91A48F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22615-5FB4-4CF4-B6D1-EB9D905A4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65DC5B-0B7E-44A6-A78B-3EF4D1BA3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F39278-B652-4A3B-B527-FA3C5FEC6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FEB5CA-CD84-479B-8510-56C1B7B6E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34DEA8-D30F-4AD0-9FED-D167517B4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705B0D-3017-47BD-946E-014836C09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CB7C-BAFC-4FFD-9EC7-81EB713F5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6027E7-081B-442B-9638-C76AD203C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D55FD6-5916-4A66-8CC9-6D26B47C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3F4D5B-32FD-4ED5-9E3A-15ECE032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078583-BFB0-4805-8030-6EC53665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FCEC4A-3D30-454F-A4CB-235BB1C9A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A1BD50-29F0-4B67-8A56-17D6C41C1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3B40E1-087D-4492-B238-B663C9067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FB2DD-8FB0-47C8-A514-EBA888CCE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76B9B-83C8-4335-8FC1-480A03B7D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75399-D6E9-4661-8B05-0D6CD2D0B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DF9F-9512-4D72-9A58-521152E46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96298-C71F-4C8C-8198-79C34B019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E65AA-3621-46C7-ADF9-0DEB74CA0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A154D-E2F7-42B9-A9E1-9EDF718A6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64152-DB18-42EC-A601-C5A29FBC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BCC79-F525-419E-8E84-C9B8F1C5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BA002-CE53-4414-84C2-99A26337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90581-69EF-4A05-BBD4-83C84A130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E5650-38C0-43C1-8348-A924BE1CF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3FE48-9B6E-479A-BFEB-43360A4DF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A26D-A323-4F15-85A8-5656C901E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ACC7-C3F9-432D-ADEB-D34BDC14B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C9C0-1766-4D17-B74A-CE0C9B90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06C1-CB62-4510-AB11-AA92CC62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E213-879C-42F4-AC3A-17DC3EA6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0E591-9E6A-4E4B-917A-18E5D01E3F8E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2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3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1E0DA-61AF-4E8E-B49D-9766EB6B7FEA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E4EEE-2A3B-429C-AF24-59CBAFDAF3F4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D8612-E3ED-470F-92C0-2E6ABC3AB12A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Reflecting on the field of adolescent literacy: Perspectives from NICHD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5410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4456"/>
                </a:solidFill>
                <a:latin typeface="Georgia"/>
              </a:rPr>
              <a:t>Brett Miller, PhD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4456"/>
                </a:solidFill>
                <a:latin typeface="Georgia"/>
              </a:rPr>
              <a:t>Program Director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4456"/>
                </a:solidFill>
                <a:latin typeface="Georgia"/>
              </a:rPr>
              <a:t>Reading, Writing, &amp; Related LD Program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24456"/>
                </a:solidFill>
                <a:latin typeface="Georgia"/>
              </a:rPr>
              <a:t>NICHD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3" name="Picture 3" descr="NICHD black.png"/>
          <p:cNvPicPr/>
          <p:nvPr/>
        </p:nvPicPr>
        <p:blipFill>
          <a:blip r:embed="rId1"/>
          <a:stretch/>
        </p:blipFill>
        <p:spPr>
          <a:xfrm>
            <a:off x="3505320" y="5756400"/>
            <a:ext cx="2286000" cy="8776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Picture1.png"/>
          <p:cNvPicPr/>
          <p:nvPr/>
        </p:nvPicPr>
        <p:blipFill>
          <a:blip r:embed="rId2"/>
          <a:stretch/>
        </p:blipFill>
        <p:spPr>
          <a:xfrm>
            <a:off x="7848720" y="57484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Picture2.png"/>
          <p:cNvPicPr/>
          <p:nvPr/>
        </p:nvPicPr>
        <p:blipFill>
          <a:blip r:embed="rId3"/>
          <a:stretch/>
        </p:blipFill>
        <p:spPr>
          <a:xfrm>
            <a:off x="533520" y="5649840"/>
            <a:ext cx="106668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Writing and Reading-Writing Connection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orkshop on Writing Development and Instruction in May cosponsored by NIF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oducts will be forthcom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Continue to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ncourage work on writing development, interventions, and reading-writing connec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Late emerging RD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uild our understanding of reading difficulties and disabilities that emerge lat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Eye towards understanding the genesis of these problems, how to remediate and to identify these individuals earlier before significant problems aris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Reading Comprehension and Intervention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eading Comprehens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Foundational work to inform construct refinement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Development of this skill from early readers into adulthood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tinued work on interventions!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Both in adolescents and with struggling adult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ational Academies Wor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AS panel activit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“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Learning Sciences: Foundations and Applications to Adolescent and Adult Literacy”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lnSpc>
                <a:spcPct val="8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Sponsored by NIFL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This panel will conduct a “study of the scientific foundations of adolescent and adult literacy with implications for policy and practice”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Product expected in early 2011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63E92-31FB-45E1-98C2-BC58E9E9DF78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Partnering with other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17080" y="22096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RA-NICHD Partnership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Ongoing partnership moving into 7</a:t>
            </a:r>
            <a:r>
              <a:rPr b="0" lang="en-US" sz="2600" spc="-1" strike="noStrike" baseline="30000">
                <a:solidFill>
                  <a:srgbClr val="438086"/>
                </a:solidFill>
                <a:latin typeface="Georgia"/>
              </a:rPr>
              <a:t>th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year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New effort focused on </a:t>
            </a:r>
            <a:r>
              <a:rPr b="0" i="1" lang="en-US" sz="2600" spc="-1" strike="noStrike">
                <a:solidFill>
                  <a:srgbClr val="438086"/>
                </a:solidFill>
                <a:latin typeface="Georgia"/>
              </a:rPr>
              <a:t>Measuring Classroom Instruction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project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Revising our normal workshop model to take advantage of technology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Title 1" descr=""/>
          <p:cNvPicPr/>
          <p:nvPr/>
        </p:nvPicPr>
        <p:blipFill>
          <a:blip r:embed="rId1"/>
          <a:stretch/>
        </p:blipFill>
        <p:spPr>
          <a:xfrm>
            <a:off x="712800" y="1974960"/>
            <a:ext cx="7785000" cy="139068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44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442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24456"/>
                </a:solidFill>
                <a:latin typeface="Georgia"/>
              </a:rPr>
              <a:t>Brett Miller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442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24456"/>
                </a:solidFill>
                <a:latin typeface="Georgia"/>
              </a:rPr>
              <a:t>millerbre@mail.nih.gov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Literacy Activities at NICHD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hy NICHD is interested in literac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rief intro to why NICHD has literacy investments across the lifespa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eflecting on our current investments in adolescent literac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Rectangle 4" descr=""/>
          <p:cNvPicPr/>
          <p:nvPr/>
        </p:nvPicPr>
        <p:blipFill>
          <a:blip r:embed="rId1"/>
          <a:stretch/>
        </p:blipFill>
        <p:spPr>
          <a:xfrm>
            <a:off x="444600" y="1974960"/>
            <a:ext cx="8053200" cy="139068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24456"/>
                </a:solidFill>
                <a:latin typeface="Georgia"/>
              </a:rPr>
              <a:t>How does literacy fit into the mission of the National Institutes of Health?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Trebuchet MS"/>
              </a:rPr>
              <a:t>Mission of NICHD: </a:t>
            </a:r>
            <a:br>
              <a:rPr sz="3200"/>
            </a:br>
            <a:r>
              <a:rPr b="0" lang="en-US" sz="3200" spc="-1" strike="noStrike">
                <a:solidFill>
                  <a:srgbClr val="424456"/>
                </a:solidFill>
                <a:latin typeface="Trebuchet MS"/>
              </a:rPr>
              <a:t>Where does literacy fit in?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Ensure that every person is born healthy and wanted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Women suffer no harmful effects from reproductive processes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Georgia"/>
              </a:rPr>
              <a:t>All children have the chance to achieve their full potential for healthy and productive lives, free from disease or disability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Georgia"/>
              </a:rPr>
              <a:t>Ensure the health, productivity, independence, and well-being of all people through optimal rehabilitation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ded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ded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ded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" dur="1" fill="hold"/>
                                  <p:tgtEl>
                                    <p:spTgt spid="23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ded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Trebuchet MS"/>
              </a:rPr>
              <a:t>Why study individuals with and without learning disabilities?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Foundational research on human learning and learning disabilities is an integral part of child development and health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Readers who do not struggle help us understand how literacy usually develops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38086"/>
                </a:solidFill>
                <a:latin typeface="Georgia"/>
              </a:rPr>
              <a:t>This is critical context for understanding research results when working with struggling readers or those with a disability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Insufficient to study only one group.  We need to understand the needs of </a:t>
            </a:r>
            <a:r>
              <a:rPr b="1" i="1" lang="en-US" sz="2100" spc="-1" strike="noStrike">
                <a:solidFill>
                  <a:srgbClr val="000000"/>
                </a:solidFill>
                <a:latin typeface="Georgia"/>
              </a:rPr>
              <a:t>all readers/writers </a:t>
            </a: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regardless of </a:t>
            </a:r>
            <a:r>
              <a:rPr b="1" i="1" lang="en-US" sz="2100" spc="-1" strike="noStrike">
                <a:solidFill>
                  <a:srgbClr val="000000"/>
                </a:solidFill>
                <a:latin typeface="Georgia"/>
              </a:rPr>
              <a:t>disability or age</a:t>
            </a: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ded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dede"/>
                                </p:to>
                              </p:animCl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ded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" dur="1" fill="hold"/>
                                  <p:tgtEl>
                                    <p:spTgt spid="23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ded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Verdana"/>
              </a:rPr>
              <a:t>Basic Questions of Interes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How do individuals learn to read &amp; write?</a:t>
            </a:r>
            <a:br>
              <a:rPr sz="3300"/>
            </a:b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What goes wrong when they don’t?</a:t>
            </a:r>
            <a:br>
              <a:rPr sz="3300"/>
            </a:b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eorgia"/>
              </a:rPr>
              <a:t>What can we do about it? (Prevention and remediation)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ded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ded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5" dur="1" fill="hold"/>
                                  <p:tgtEl>
                                    <p:spTgt spid="23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eded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Current Directions in Adol. Literacy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dolescent Literacy Consortiu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Interagency effort with OVAE (ED) and OSER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Funded 5 research projects focused on various aspects of adolescent literacy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Range of methodological techniques (behavior and neurobiology)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Includes work on interventions, motivation and engagement, and foundational research on reading comprehension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Interdisciplinary teams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Learning Disabilities Research Center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3 of 4 centers involve work with pre-adolescents and adolescen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xamination of RTI in secondary setting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Intervention based studie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enerate estimates of prevalence of different types of RD for this age group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xamine reading comprehension in skilled and struggling reader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Where we envision moving to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riting and reading-writing relationship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cus on late emerging R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cus on reading comprehens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tinue emphasis on translation (interventions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3T21:46:55Z</dcterms:created>
  <dc:creator>Brett</dc:creator>
  <dc:description/>
  <dc:language>en-US</dc:language>
  <cp:lastModifiedBy>sdublins</cp:lastModifiedBy>
  <dcterms:modified xsi:type="dcterms:W3CDTF">2009-06-07T12:14:51Z</dcterms:modified>
  <cp:revision>19</cp:revision>
  <dc:subject/>
  <dc:title>Slide 1</dc:title>
</cp:coreProperties>
</file>