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D1B2-7DF1-48D7-A8F7-CC3E292CB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56DB-941E-4C4D-9CCB-160D89D35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6EF9-B007-471C-90E5-B2FCFD531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7051-0CB7-4345-81C6-3ECACB0DF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569-321D-4281-8A57-4C32ED13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FC9-529B-43EC-9D4B-E0B84D11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540-B76F-42F7-AC06-E33CA948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2A6-FD3B-469E-8B9A-27F7AED1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63EB-65EB-4834-9D22-3E2C313A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6B3A-504A-48D9-B8AD-C320FD2D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D865-603A-4FFA-929D-A875252C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579A-C492-4735-A879-DB5BA2C0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3281-A31C-4594-81A0-FDCF3FE1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CF0E-327E-4AA3-93F5-0C106501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1F09-914D-4A80-99AC-E87272A0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6B4-F8F3-417A-B8E2-D37B1B51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F110-2E32-4E2F-BDD6-93384AB4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A87D-4CA1-4AE4-8D18-297C6CE0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F6F1-0772-4871-9680-D83AF5E8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BABB-F78E-4D77-941D-B3EB2DCE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BD73-80CB-46B2-A27E-10FEF307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F675C-1885-4CE5-9BFB-14AD1305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04C71-23E4-4BFF-9947-32DD30BB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7827E-B486-467F-B821-F79D7E81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A4652-FA02-4A58-A127-BA00A291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EF545-6BD8-4A2F-815A-0A81E892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0B1-A166-411F-9A84-F678BC6E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55BB8-420F-4CFB-8B66-6E73F7F4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6BFB4-D716-4F6D-A6F6-55E5C8D9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9A6B5-E8FB-4E71-8BA0-FC4BA1D9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2C4AA-9BFC-48D9-B075-83D5BBB6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B756E-D52E-4559-AAB1-8765126F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BCE9F-D61E-477D-AEF4-901B42D9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E9660-38D3-4DBC-8B99-402C98C5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C9AA3-FEEA-4227-B7F6-B1E15BBF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BCADD-29CE-4789-B5BC-DC3A1F1E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2D7AA-4CA2-498D-A2C0-74C1D508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BE8-2B7B-4171-A1CA-BB2080F9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6E389-FDF8-45E4-9A77-514B3B6C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154E-B795-4A95-8ADA-68E78000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37245-F38F-4258-8668-C1F4321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BC92-CED7-48EF-87D1-C0ADB696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3442-A42E-437F-B325-83CBD10E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5332-28DD-4CBD-8AA4-A99CA061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09D30-53B1-4C2D-92B2-3E0CE287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ED231-3E06-461A-88E6-1CF59B67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EC36-867E-4E3E-8F7C-B18A84A0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AF7-4C06-4739-B6D7-88306DB3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458-061C-4773-A7C4-581370AB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C2A-0B95-4A18-8D51-3259646C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F11-735E-44BD-AD47-5EF63632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C17-4C8F-4CC3-9D1B-971B4992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22A-53A3-4E82-92E7-F505CBEF539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63DE-60F1-4B43-8F7D-3A9972D27F0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B49F-7A1A-42F6-84FC-C6975E95C2B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5779-9227-4B71-AD91-0D010A2CB53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flecting on the field of adolescent literacy: Perspectives from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541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Brett Miller, P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Program Directo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Reading, Writing, &amp; Related LD Progra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NIC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NICHD black.png"/>
          <p:cNvPicPr/>
          <p:nvPr/>
        </p:nvPicPr>
        <p:blipFill>
          <a:blip r:embed="rId1"/>
          <a:stretch/>
        </p:blipFill>
        <p:spPr>
          <a:xfrm>
            <a:off x="3505320" y="5756400"/>
            <a:ext cx="2286000" cy="87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Picture1.png"/>
          <p:cNvPicPr/>
          <p:nvPr/>
        </p:nvPicPr>
        <p:blipFill>
          <a:blip r:embed="rId2"/>
          <a:stretch/>
        </p:blipFill>
        <p:spPr>
          <a:xfrm>
            <a:off x="7848720" y="5748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Picture2.png"/>
          <p:cNvPicPr/>
          <p:nvPr/>
        </p:nvPicPr>
        <p:blipFill>
          <a:blip r:embed="rId3"/>
          <a:stretch/>
        </p:blipFill>
        <p:spPr>
          <a:xfrm>
            <a:off x="533520" y="564984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riting and Reading-Writing Connec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shop on Writing Development and Instruction in May cosponsored by NIF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ts will be forthco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ntinue to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courage work on writing development, interventions, and reading-writing conn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ate emerging R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ild our understanding of reading difficulties and disabilities that emerge l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ye towards understanding the genesis of these problems, how to remediate and to identify these individuals earlier before significant problems ari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eading Comprehension and Intervent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oundational work to inform construct refin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ment of this skill from early readers into adulth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d work on intervention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th in adolescents and with struggling adul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tional Academies 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 panel activ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Learning Sciences: Foundations and Applications to Adolescent and Adult Literacy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ponsored by NIFL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is panel will conduct a “study of the scientific foundations of adolescent and adult literacy with implications for policy and practice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duct expected in early 2011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5A02-7766-4573-BAD5-1BDF0E151D8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tnering with oth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08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RA-NICHD Partner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ngoing partnership moving into 7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yea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ew effort focused on </a:t>
            </a:r>
            <a:r>
              <a:rPr b="0" i="1" lang="en-US" sz="2600" spc="-1" strike="noStrike">
                <a:solidFill>
                  <a:srgbClr val="438086"/>
                </a:solidFill>
                <a:latin typeface="Georgia"/>
              </a:rPr>
              <a:t>Measuring Classroom Instruction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j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sing our normal workshop model to take advantage of technolog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712800" y="1974960"/>
            <a:ext cx="7785000" cy="13906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Brett Mill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millerbre@mail.nih.gov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teracy Activities at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y NICHD is interested in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ief intro to why NICHD has literacy investments across the lifesp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flecting on our current investments in adolescent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4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24456"/>
                </a:solidFill>
                <a:latin typeface="Georgia"/>
              </a:rPr>
              <a:t>How does literacy fit into the mission of the National Institutes of Health?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Mission of NICHD: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ere does literacy fit in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Ensure that every person is born healthy and wante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omen suffer no harmful effects from reproductive processe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All children have the chance to achieve their full potential for healthy and productive lives, free from disease or disability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Ensure the health, productivity, independence, and well-being of all people through optimal rehabilitation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2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study individuals with and without learning disabilities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oundational research on human learning and learning disabilities is an integral part of child development and health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aders who do not struggle help us understand how literacy usually develop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This is critical context for understanding research results when working with struggling readers or those with a disability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sufficient to study only one group.  We need to understand the need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all readers/writers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gardles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disability or age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Verdana"/>
              </a:rPr>
              <a:t>Basic Questions of Interes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How do individuals learn to read &amp; write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goes wrong when they don’t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can we do about it? (Prevention and remediation)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2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urrent Directions in Adol. Literac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olescent Literacy Consortiu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agency effort with OVAE (ED) and OS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unded 5 research projects focused on various aspects of adolescent literac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Range of methodological techniques (behavior and neurobiology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cludes work on interventions, motivation and engagement, and foundational research on reading comprehens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terdisciplinary team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earning Disabilities Research Center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 of 4 centers involve work with pre-adolescents and adolesc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ation of RTI in secondary set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vention based stud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te estimates of prevalence of different types of RD for this age gr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reading comprehension in skilled and struggling read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ere we envision moving t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ing and reading-writing relation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late emerging 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emphasis on translation (intervention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21:46:55Z</dcterms:created>
  <dc:creator>Brett</dc:creator>
  <dc:description/>
  <dc:language>en-US</dc:language>
  <cp:lastModifiedBy>sdublins</cp:lastModifiedBy>
  <dcterms:modified xsi:type="dcterms:W3CDTF">2009-06-07T12:14:51Z</dcterms:modified>
  <cp:revision>19</cp:revision>
  <dc:subject/>
  <dc:title>Slide 1</dc:title>
</cp:coreProperties>
</file>