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04C3D-E52A-4289-A2FF-536E5DF24B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1D1E7-7534-4E65-8554-E5C9CB018A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36B01-5CC6-4BC9-A01E-5D8F48C7B8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0D09B-1749-4787-9BF3-AC2D96D1C7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4AFDF-37A4-4383-927E-976F1AB26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6F85C-4286-47BD-90B4-75718FC02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B37F7-06DA-4D86-BB6C-77B1520EA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A3B9A-B99A-4850-B7D5-1331327EC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16B7A-5199-4687-BCC4-39C88CA1D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62B66-83C2-44C7-B9F6-851DBF294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71350-B2B7-476B-BF45-4DFD3BAD4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25B4E-5DE2-40A1-8CF6-CF652B6D1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EBC77-B81D-41E1-8507-213782494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14EF8-0656-407F-AACB-6AC26E404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11B59-E966-4674-A747-AE789FF86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355B0-1F53-4F27-9B49-9FC1B0E7A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A3851-B6F0-46A3-A456-71159051F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C2357-BB04-4AD4-9697-6F7ACA088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77ED4-BF5A-4A66-A96C-E7F64940E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E54F4-FCED-488C-BFA9-C96E4D0CC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70FFF-45B0-4F27-B70C-9028D1719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2086725-E984-4FB2-9A46-16C0278BB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20C15F2-F499-47AF-8D96-483CD3EF0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A4F7FF4-7328-4897-8E4E-2A5A2A089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D1A7AC0-A495-44EE-82CF-DC96D0AD1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7E82786-3919-4BEA-A336-5798DF3E5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C45A6-17C0-4ABC-8A3B-BA6B27861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AB0CCFC-BADA-4FB3-8D77-B74F27819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95DA61C-D163-44EB-8241-223F0DDE5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2A1729B-6A17-4745-8367-504719877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374CAC3-18E7-471F-8E93-69C9C4EB8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8C2E972-49D3-4A31-BB80-AE6A55AAA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48272F8-E066-40A4-B8F6-C07A8477F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97BAE48-2087-44D5-959F-F325DD53B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68A992-4EFF-45E6-ADBD-A616361EA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40346A-3502-4396-B7B1-26F339E2F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8FC9FD-4DBD-406B-BCFD-1B495502A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DBB15-D3D1-4D89-AC08-CC2EAB042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5396B4-E9E3-424B-8C8C-8200BB796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AB40B2-BDA6-4C19-A71F-8D5486A8A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8E53AB-1BE7-4E48-820C-DE4E88DA7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290860-1AEB-4AFB-892C-A11E5FB9F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50FC6B-5423-4589-B4D1-B5D8FC7E1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BEC33C-F437-41F1-9F17-75CAEA1DF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24D911-4078-4DEF-8106-358174AC5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DD578C-C5C5-4576-BBE7-9F9C91924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DD83B5-9F07-44EF-B5C4-AF1D0A570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1FB70-5C9F-40F5-A01F-4A3033979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BEBB3-2DF2-41E9-957C-A9D83E3DB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E4D24-51B0-4C7F-BEBC-915C899D1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6327B-15D1-44D5-81CC-6B42597C3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2821C-9B74-47B4-BF7A-53B0E8A90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D0C30-C222-494D-B683-4522E6493851}" type="slidenum">
              <a:rPr b="0" lang="en-US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2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23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4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5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26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ounded Rectangle 29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ounded Rectangle 30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6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9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0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D269E-1246-4D73-9E24-6AB41046A624}" type="slidenum">
              <a:rPr b="0" lang="en-US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2E7C3-8F1E-4D75-8EB1-A17F458DC2D1}" type="slidenum">
              <a:rPr b="0" lang="en-US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2E528-70DC-472B-8092-FD35E7661910}" type="slidenum">
              <a:rPr b="0" lang="en-US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4015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rebuchet MS"/>
              </a:rPr>
              <a:t>Reflecting on the field of adolescent literacy: Perspectives from NICHD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3886200"/>
            <a:ext cx="54100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24456"/>
                </a:solidFill>
                <a:latin typeface="Georgia"/>
              </a:rPr>
              <a:t>Brett Miller, PhD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24456"/>
                </a:solidFill>
                <a:latin typeface="Georgia"/>
              </a:rPr>
              <a:t>Program Director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24456"/>
                </a:solidFill>
                <a:latin typeface="Georgia"/>
              </a:rPr>
              <a:t>Reading, Writing, &amp; Related LD Program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24456"/>
                </a:solidFill>
                <a:latin typeface="Georgia"/>
              </a:rPr>
              <a:t>NICHD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23" name="Picture 3" descr="NICHD black.png"/>
          <p:cNvPicPr/>
          <p:nvPr/>
        </p:nvPicPr>
        <p:blipFill>
          <a:blip r:embed="rId1"/>
          <a:stretch/>
        </p:blipFill>
        <p:spPr>
          <a:xfrm>
            <a:off x="3505320" y="5756400"/>
            <a:ext cx="2286000" cy="87768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4" descr="Picture1.png"/>
          <p:cNvPicPr/>
          <p:nvPr/>
        </p:nvPicPr>
        <p:blipFill>
          <a:blip r:embed="rId2"/>
          <a:stretch/>
        </p:blipFill>
        <p:spPr>
          <a:xfrm>
            <a:off x="7848720" y="574848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5" descr="Picture2.png"/>
          <p:cNvPicPr/>
          <p:nvPr/>
        </p:nvPicPr>
        <p:blipFill>
          <a:blip r:embed="rId3"/>
          <a:stretch/>
        </p:blipFill>
        <p:spPr>
          <a:xfrm>
            <a:off x="533520" y="5649840"/>
            <a:ext cx="1066680" cy="10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Writing and Reading-Writing Connection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Workshop on Writing Development and Instruction in May cosponsored by NIF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Products will be forthcoming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Continue to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encourage work on writing development, interventions, and reading-writing connectio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Late emerging RD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Build our understanding of reading difficulties and disabilities that emerge later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Eye towards understanding the genesis of these problems, how to remediate and to identify these individuals earlier before significant problems arise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Reading Comprehension and Interventions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Reading Comprehensio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Foundational work to inform construct refinement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Development of this skill from early readers into adulthood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ontinued work on interventions!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Both in adolescents and with struggling adults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National Academies Work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NAS panel activity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lnSpc>
                <a:spcPct val="8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“</a:t>
            </a: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Learning Sciences: Foundations and Applications to Adolescent and Adult Literacy”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lvl="2" marL="922320" indent="-218880">
              <a:lnSpc>
                <a:spcPct val="80000"/>
              </a:lnSpc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548a"/>
                </a:solidFill>
                <a:latin typeface="Georgia"/>
              </a:rPr>
              <a:t>Sponsored by NIFL</a:t>
            </a:r>
            <a:endParaRPr b="0" lang="en-US" sz="2000" spc="-1" strike="noStrike">
              <a:solidFill>
                <a:srgbClr val="53548a"/>
              </a:solidFill>
              <a:latin typeface="Georgia"/>
            </a:endParaRPr>
          </a:p>
          <a:p>
            <a:pPr lvl="1" marL="657360" indent="-246240">
              <a:lnSpc>
                <a:spcPct val="8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8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This panel will conduct a “study of the scientific foundations of adolescent and adult literacy with implications for policy and practice”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8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8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Product expected in early 2011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Slide Number Placeholder 5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F1D2D-887B-4812-900B-725254CB59C8}" type="slidenum">
              <a:rPr b="0" lang="en-US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Partnering with others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117080" y="22096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IRA-NICHD Partnership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Ongoing partnership moving into 7</a:t>
            </a:r>
            <a:r>
              <a:rPr b="0" lang="en-US" sz="2600" spc="-1" strike="noStrike" baseline="30000">
                <a:solidFill>
                  <a:srgbClr val="438086"/>
                </a:solidFill>
                <a:latin typeface="Georgia"/>
              </a:rPr>
              <a:t>th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 year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New effort focused on </a:t>
            </a:r>
            <a:r>
              <a:rPr b="0" i="1" lang="en-US" sz="2600" spc="-1" strike="noStrike">
                <a:solidFill>
                  <a:srgbClr val="438086"/>
                </a:solidFill>
                <a:latin typeface="Georgia"/>
              </a:rPr>
              <a:t>Measuring Classroom Instruction 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project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Revising our normal workshop model to take advantage of technology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Title 1" descr=""/>
          <p:cNvPicPr/>
          <p:nvPr/>
        </p:nvPicPr>
        <p:blipFill>
          <a:blip r:embed="rId1"/>
          <a:stretch/>
        </p:blipFill>
        <p:spPr>
          <a:xfrm>
            <a:off x="712800" y="1974960"/>
            <a:ext cx="7785000" cy="1390680"/>
          </a:xfrm>
          <a:prstGeom prst="rect">
            <a:avLst/>
          </a:prstGeom>
          <a:ln w="0">
            <a:noFill/>
          </a:ln>
        </p:spPr>
      </p:pic>
      <p:sp>
        <p:nvSpPr>
          <p:cNvPr id="254" name="PlaceHolder 1"/>
          <p:cNvSpPr>
            <a:spLocks noGrp="1"/>
          </p:cNvSpPr>
          <p:nvPr>
            <p:ph/>
          </p:nvPr>
        </p:nvSpPr>
        <p:spPr>
          <a:xfrm>
            <a:off x="722160" y="336708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44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442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24456"/>
                </a:solidFill>
                <a:latin typeface="Georgia"/>
              </a:rPr>
              <a:t>Brett Miller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442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24456"/>
                </a:solidFill>
                <a:latin typeface="Georgia"/>
              </a:rPr>
              <a:t>millerbre@mail.nih.gov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Literacy Activities at NICHD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5272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Why NICHD is interested in literacy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Brief intro to why NICHD has literacy investments across the lifespa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Reflecting on our current investments in adolescent literacy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Next step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Rectangle 4" descr=""/>
          <p:cNvPicPr/>
          <p:nvPr/>
        </p:nvPicPr>
        <p:blipFill>
          <a:blip r:embed="rId1"/>
          <a:stretch/>
        </p:blipFill>
        <p:spPr>
          <a:xfrm>
            <a:off x="444600" y="1974960"/>
            <a:ext cx="8053200" cy="1390680"/>
          </a:xfrm>
          <a:prstGeom prst="rect">
            <a:avLst/>
          </a:prstGeom>
          <a:ln w="0">
            <a:noFill/>
          </a:ln>
        </p:spPr>
      </p:pic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722160" y="336708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24456"/>
                </a:solidFill>
                <a:latin typeface="Georgia"/>
              </a:rPr>
              <a:t>How does literacy fit into the mission of the National Institutes of Health?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4456"/>
                </a:solidFill>
                <a:latin typeface="Trebuchet MS"/>
              </a:rPr>
              <a:t>Mission of NICHD: </a:t>
            </a:r>
            <a:br>
              <a:rPr sz="3200"/>
            </a:br>
            <a:r>
              <a:rPr b="0" lang="en-US" sz="3200" spc="-1" strike="noStrike">
                <a:solidFill>
                  <a:srgbClr val="424456"/>
                </a:solidFill>
                <a:latin typeface="Trebuchet MS"/>
              </a:rPr>
              <a:t>Where does literacy fit in?</a:t>
            </a:r>
            <a:endParaRPr b="0" lang="en-US" sz="32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Georgia"/>
              </a:rPr>
              <a:t>Ensure that every person is born healthy and wanted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Georgia"/>
              </a:rPr>
              <a:t>Women suffer no harmful effects from reproductive processes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Georgia"/>
              </a:rPr>
              <a:t>All children have the chance to achieve their full potential for healthy and productive lives, free from disease or disability</a:t>
            </a: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Georgia"/>
              </a:rPr>
              <a:t>Ensure the health, productivity, independence, and well-being of all people through optimal rehabilitation.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edede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edede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edede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4" dur="1" fill="hold"/>
                                  <p:tgtEl>
                                    <p:spTgt spid="231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edede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4456"/>
                </a:solidFill>
                <a:latin typeface="Trebuchet MS"/>
              </a:rPr>
              <a:t>Why study individuals with and without learning disabilities?</a:t>
            </a:r>
            <a:endParaRPr b="0" lang="en-US" sz="32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Georgia"/>
              </a:rPr>
              <a:t>Foundational research on human learning and learning disabilities is an integral part of child development and health.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Georgia"/>
              </a:rPr>
              <a:t>Readers who do not struggle help us understand how literacy usually develops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438086"/>
                </a:solidFill>
                <a:latin typeface="Georgia"/>
              </a:rPr>
              <a:t>This is critical context for understanding research results when working with struggling readers or those with a disability</a:t>
            </a:r>
            <a:endParaRPr b="0" lang="en-US" sz="19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Georgia"/>
              </a:rPr>
              <a:t>Insufficient to study only one group.  We need to understand the needs of </a:t>
            </a:r>
            <a:r>
              <a:rPr b="1" i="1" lang="en-US" sz="2100" spc="-1" strike="noStrike">
                <a:solidFill>
                  <a:srgbClr val="000000"/>
                </a:solidFill>
                <a:latin typeface="Georgia"/>
              </a:rPr>
              <a:t>all readers/writers </a:t>
            </a:r>
            <a:r>
              <a:rPr b="0" lang="en-US" sz="2100" spc="-1" strike="noStrike">
                <a:solidFill>
                  <a:srgbClr val="000000"/>
                </a:solidFill>
                <a:latin typeface="Georgia"/>
              </a:rPr>
              <a:t>regardless of </a:t>
            </a:r>
            <a:r>
              <a:rPr b="1" i="1" lang="en-US" sz="2100" spc="-1" strike="noStrike">
                <a:solidFill>
                  <a:srgbClr val="000000"/>
                </a:solidFill>
                <a:latin typeface="Georgia"/>
              </a:rPr>
              <a:t>disability or age</a:t>
            </a:r>
            <a:r>
              <a:rPr b="0" lang="en-US" sz="21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38086"/>
              </a:solidFill>
              <a:latin typeface="Georgia"/>
            </a:endParaRPr>
          </a:p>
          <a:p>
            <a:pPr marL="365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edede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edede"/>
                                </p:to>
                              </p:animClr>
                              <p:animClr clrSpc="rgb">
                                <p:cBhvr>
                                  <p:cTn id="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edede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6" dur="1" fill="hold"/>
                                  <p:tgtEl>
                                    <p:spTgt spid="233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edede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Verdana"/>
              </a:rPr>
              <a:t>Basic Questions of Interes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Georgia"/>
              </a:rPr>
              <a:t>How do individuals learn to read &amp; write?</a:t>
            </a:r>
            <a:br>
              <a:rPr sz="3300"/>
            </a:br>
            <a:r>
              <a:rPr b="0" lang="en-US" sz="33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Georgia"/>
              </a:rPr>
              <a:t>What goes wrong when they don’t?</a:t>
            </a:r>
            <a:br>
              <a:rPr sz="3300"/>
            </a:br>
            <a:r>
              <a:rPr b="0" lang="en-US" sz="33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Georgia"/>
              </a:rPr>
              <a:t>What can we do about it? (Prevention and remediation)</a:t>
            </a: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edede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edede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5" dur="1" fill="hold"/>
                                  <p:tgtEl>
                                    <p:spTgt spid="23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edede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Current Directions in Adol. Literacy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dolescent Literacy Consortium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Interagency effort with OVAE (ED) and OSERS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Funded 5 research projects focused on various aspects of adolescent literacy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3548a"/>
                </a:solidFill>
                <a:latin typeface="Georgia"/>
              </a:rPr>
              <a:t>Range of methodological techniques (behavior and neurobiology)</a:t>
            </a:r>
            <a:endParaRPr b="0" lang="en-US" sz="2400" spc="-1" strike="noStrike">
              <a:solidFill>
                <a:srgbClr val="53548a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3548a"/>
                </a:solidFill>
                <a:latin typeface="Georgia"/>
              </a:rPr>
              <a:t>Includes work on interventions, motivation and engagement, and foundational research on reading comprehension</a:t>
            </a:r>
            <a:endParaRPr b="0" lang="en-US" sz="2400" spc="-1" strike="noStrike">
              <a:solidFill>
                <a:srgbClr val="53548a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3548a"/>
                </a:solidFill>
                <a:latin typeface="Georgia"/>
              </a:rPr>
              <a:t>Interdisciplinary teams</a:t>
            </a:r>
            <a:endParaRPr b="0" lang="en-US" sz="2400" spc="-1" strike="noStrike">
              <a:solidFill>
                <a:srgbClr val="53548a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Learning Disabilities Research Centers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3 of 4 centers involve work with pre-adolescents and adolescent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Examination of RTI in secondary setting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Intervention based studies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Generate estimates of prevalence of different types of RD for this age group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Examine reading comprehension in skilled and struggling reader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Where we envision moving to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Writing and reading-writing relationship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cus on late emerging RD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cus on reading comprehensio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ontinue emphasis on translation (interventions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3T21:46:55Z</dcterms:created>
  <dc:creator>Brett</dc:creator>
  <dc:description/>
  <dc:language>en-US</dc:language>
  <cp:lastModifiedBy>sdublins</cp:lastModifiedBy>
  <dcterms:modified xsi:type="dcterms:W3CDTF">2009-06-07T12:14:51Z</dcterms:modified>
  <cp:revision>19</cp:revision>
  <dc:subject/>
  <dc:title>Slide 1</dc:title>
</cp:coreProperties>
</file>